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0D4EB-6D77-41ED-BA6D-9DD4568FC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0CF5B-D38B-48A4-AFDF-7E82A376B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35DF16-FBAD-4631-B2EA-223ECC5C4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1D8B9-1466-436B-B958-606438417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1BF2A-B0FF-4CD8-A615-6965D879B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275C28-79D1-40B3-B412-7BC26E287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D2190-B51A-4CD5-87B1-F7F490FCA1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4148D-64D0-4D3E-A9C6-7BBBDEEF6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5D821-3D53-4813-9416-D7951F7B4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F7178B-F9C7-4F0D-A6B4-BD759CFC8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70C1B-17CC-4D28-9761-596BC82A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19F9E-A2F2-4641-A4CA-A02428D72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16F08-DA4B-4BC2-8451-314E7D49D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E841A-6E13-4311-9FAF-0AD60D4F8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176A7-849A-45EF-9CD1-E0E9A7A740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E21CCE-3810-4441-8664-017BF51D7F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1F4E7-DD5C-4426-905B-AFAF1B0234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810A25-6FCC-4DF4-9F64-FEF7924E47F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8B13B-77DE-43B1-911D-7CA501C8A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49A7EA-CDCB-4FE4-B07A-09E557BFD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AC169-2BC1-4E19-9CF1-E2561848F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AA3973-AB05-4A2C-AD5E-F5CAA80211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D1727-5B17-4555-8863-C49CC1BBD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B68021-DDEF-4D8D-9FD8-F323E72A73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4536D-DDF7-4C61-9CF4-3D92EE46F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8F0B8-1BFE-456D-AEA2-AFED3BB4D0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79510-DB4E-4048-9543-43B8D7BC22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22920-7F88-4B97-A9FF-5445B01A34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F13769-8598-4B56-8B37-B95A299B2D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6BD131-6334-454B-8B53-2B0533460A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BA05-C5C7-40D1-A14A-652F43018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6DAAF-13A7-4AE4-88F4-9FDCF28D0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3DEE8-37A0-401E-9093-A158CCAA2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45AE3-A280-4B7A-B4A3-4BB42339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13A32-C69F-4A7C-BA6B-788E452770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64218-7788-45FC-B8AC-93693788F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F704-50CE-43AA-9331-14AFBD6B0CFF}" type="datetime">
              <a:rPr b="0" lang="en-US" sz="1400" spc="-1" strike="noStrike">
                <a:solidFill>
                  <a:srgbClr val="000000"/>
                </a:solidFill>
                <a:latin typeface="Tahoma"/>
              </a:rPr>
              <a:t>07/28/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06512-243B-4A84-888D-9214691B66A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D73B2-BC3B-4576-A096-71CB6DE15698}" type="datetime">
              <a:rPr b="0" lang="en-US" sz="1400" spc="-1" strike="noStrike">
                <a:solidFill>
                  <a:srgbClr val="1c1c1c"/>
                </a:solidFill>
                <a:latin typeface="Tahoma"/>
              </a:rPr>
              <a:t>07/28/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FA8C-C502-4AA5-9D50-C9F840357F32}"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1409-EA88-4347-9FC4-FA84641921D1}"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07F06-5E53-4642-A67B-C4A3E0407C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63400" y="1724040"/>
            <a:ext cx="6838920" cy="110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333399"/>
                </a:solidFill>
                <a:latin typeface="Tahoma"/>
              </a:rPr>
              <a:t>BİREYSELLEŞTİRİLMİŞ EĞİTİM PLANI (BEP)</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e – baba açısından</a:t>
            </a:r>
            <a:endParaRPr b="0" lang="en-US" sz="4400" spc="-1" strike="noStrike">
              <a:solidFill>
                <a:srgbClr val="333399"/>
              </a:solidFill>
              <a:latin typeface="Tahoma"/>
            </a:endParaRPr>
          </a:p>
        </p:txBody>
      </p:sp>
      <p:sp>
        <p:nvSpPr>
          <p:cNvPr id="159"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400" spc="-1" strike="noStrike" u="sng">
                <a:solidFill>
                  <a:srgbClr val="99ff66"/>
                </a:solidFill>
                <a:uFillTx/>
                <a:latin typeface="Tahoma"/>
              </a:rPr>
              <a:t>2.Anne-baba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 okul personeli arasında iletişim aracı </a:t>
            </a:r>
            <a:r>
              <a:rPr b="0" lang="en-US" sz="2400" spc="-1" strike="noStrike">
                <a:solidFill>
                  <a:srgbClr val="000000"/>
                </a:solidFill>
                <a:latin typeface="Tahoma"/>
              </a:rPr>
              <a:t>	</a:t>
            </a:r>
            <a:r>
              <a:rPr b="0" lang="en-US" sz="2400" spc="-1" strike="noStrike">
                <a:solidFill>
                  <a:srgbClr val="000000"/>
                </a:solidFill>
                <a:latin typeface="Tahoma"/>
              </a:rPr>
              <a:t>görevi görür ve çocuğun gereksinimleri, nelerin </a:t>
            </a:r>
            <a:r>
              <a:rPr b="0" lang="en-US" sz="2400" spc="-1" strike="noStrike">
                <a:solidFill>
                  <a:srgbClr val="000000"/>
                </a:solidFill>
                <a:latin typeface="Tahoma"/>
              </a:rPr>
              <a:t>	</a:t>
            </a:r>
            <a:r>
              <a:rPr b="0" lang="en-US" sz="2400" spc="-1" strike="noStrike">
                <a:solidFill>
                  <a:srgbClr val="000000"/>
                </a:solidFill>
                <a:latin typeface="Tahoma"/>
              </a:rPr>
              <a:t>sağlanabileceği ve karşılaşılacak sonuçların neler </a:t>
            </a:r>
            <a:r>
              <a:rPr b="0" lang="en-US" sz="2400" spc="-1" strike="noStrike">
                <a:solidFill>
                  <a:srgbClr val="000000"/>
                </a:solidFill>
                <a:latin typeface="Tahoma"/>
              </a:rPr>
              <a:t>	</a:t>
            </a:r>
            <a:r>
              <a:rPr b="0" lang="en-US" sz="2400" spc="-1" strike="noStrike">
                <a:solidFill>
                  <a:srgbClr val="000000"/>
                </a:solidFill>
                <a:latin typeface="Tahoma"/>
              </a:rPr>
              <a:t>olabileceği konusunda her iki tarafta da eşit söz </a:t>
            </a:r>
            <a:r>
              <a:rPr b="0" lang="en-US" sz="2400" spc="-1" strike="noStrike">
                <a:solidFill>
                  <a:srgbClr val="000000"/>
                </a:solidFill>
                <a:latin typeface="Tahoma"/>
              </a:rPr>
              <a:t>	</a:t>
            </a:r>
            <a:r>
              <a:rPr b="0" lang="en-US" sz="2400" spc="-1" strike="noStrike">
                <a:solidFill>
                  <a:srgbClr val="000000"/>
                </a:solidFill>
                <a:latin typeface="Tahoma"/>
              </a:rPr>
              <a:t>hakkı sağla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rle okul arasındaki görüş farklılıklarının </a:t>
            </a:r>
            <a:r>
              <a:rPr b="0" lang="en-US" sz="2400" spc="-1" strike="noStrike">
                <a:solidFill>
                  <a:srgbClr val="000000"/>
                </a:solidFill>
                <a:latin typeface="Tahoma"/>
              </a:rPr>
              <a:t>	</a:t>
            </a:r>
            <a:r>
              <a:rPr b="0" lang="en-US" sz="2400" spc="-1" strike="noStrike">
                <a:solidFill>
                  <a:srgbClr val="000000"/>
                </a:solidFill>
                <a:latin typeface="Tahoma"/>
              </a:rPr>
              <a:t>çözümlenmesi konusunda önemli yarar </a:t>
            </a:r>
            <a:r>
              <a:rPr b="0" lang="en-US" sz="2400" spc="-1" strike="noStrike">
                <a:solidFill>
                  <a:srgbClr val="000000"/>
                </a:solidFill>
                <a:latin typeface="Tahoma"/>
              </a:rPr>
              <a:t>	</a:t>
            </a:r>
            <a:r>
              <a:rPr b="0" lang="en-US" sz="2400" spc="-1" strike="noStrike">
                <a:solidFill>
                  <a:srgbClr val="000000"/>
                </a:solidFill>
                <a:latin typeface="Tahoma"/>
              </a:rPr>
              <a:t>sağlamaktadı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2978B86-E8C7-4736-8ECF-E9C34D071C07}" type="slidenum">
              <a:t>10</a:t>
            </a:fld>
          </a:p>
        </p:txBody>
      </p:sp>
      <p:sp>
        <p:nvSpPr>
          <p:cNvPr id="5" name="PlaceHolder 4"/>
          <p:cNvSpPr>
            <a:spLocks noGrp="1"/>
          </p:cNvSpPr>
          <p:nvPr>
            <p:ph type="dt" idx="1"/>
          </p:nvPr>
        </p:nvSpPr>
        <p:spPr/>
        <p:txBody>
          <a:bodyPr/>
          <a:p>
            <a:fld id="{DE6055C6-715A-4533-B256-5ED719B089C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tmen açısınd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	</a:t>
            </a:r>
            <a:r>
              <a:rPr b="1" lang="en-US" sz="2400" spc="-1" strike="noStrike" u="sng">
                <a:solidFill>
                  <a:srgbClr val="99ff66"/>
                </a:solidFill>
                <a:uFillTx/>
                <a:latin typeface="Tahoma"/>
              </a:rPr>
              <a:t>3.Öğretmen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tmenin çocuğun hedeflenen amaçlar doğrultusunda ilerlemesini belirlemede uygulama ve değerlendirme aracı olarak işlev görmesine olanak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 ortamı, sınıf dışından danışmanlarla ve diğer disiplinlerden gelen kişilerle paylaşılarak sınıf öğretmenin alternatifler geliştirmesini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 için bir plan ve kılavuz görevi gö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6432DF1-76F1-4EEC-AF2A-D6F10D72C210}" type="slidenum">
              <a:t>11</a:t>
            </a:fld>
          </a:p>
        </p:txBody>
      </p:sp>
      <p:sp>
        <p:nvSpPr>
          <p:cNvPr id="5" name="PlaceHolder 4"/>
          <p:cNvSpPr>
            <a:spLocks noGrp="1"/>
          </p:cNvSpPr>
          <p:nvPr>
            <p:ph type="dt" idx="1"/>
          </p:nvPr>
        </p:nvSpPr>
        <p:spPr/>
        <p:txBody>
          <a:bodyPr/>
          <a:p>
            <a:fld id="{B8C7840E-8FB7-4B5D-8E51-9F31B12CD0E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NASIL HAZIRLANIR?</a:t>
            </a:r>
            <a:br>
              <a:rPr sz="3200"/>
            </a:br>
            <a:endParaRPr b="0" lang="en-US" sz="3200" spc="-1" strike="noStrike">
              <a:solidFill>
                <a:srgbClr val="333399"/>
              </a:solidFill>
              <a:latin typeface="Tahoma"/>
            </a:endParaRPr>
          </a:p>
        </p:txBody>
      </p:sp>
      <p:sp>
        <p:nvSpPr>
          <p:cNvPr id="16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BEP Süreci 7 Temel Aşamadan Oluşur:</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a:t>
            </a:r>
            <a:r>
              <a:rPr b="0" lang="tr-TR" sz="2400" spc="-1" strike="noStrike">
                <a:solidFill>
                  <a:srgbClr val="000000"/>
                </a:solidFill>
                <a:latin typeface="Tahoma"/>
              </a:rPr>
              <a:t>	</a:t>
            </a:r>
            <a:r>
              <a:rPr b="0" lang="tr-TR" sz="2400" spc="-1" strike="noStrike">
                <a:solidFill>
                  <a:srgbClr val="000000"/>
                </a:solidFill>
                <a:latin typeface="Tahoma"/>
              </a:rPr>
              <a:t>Bireyselleştirilmiş eğitim programını hazırlayacak ekibin oluşturul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a:t>
            </a:r>
            <a:r>
              <a:rPr b="0" lang="tr-TR" sz="2400" spc="-1" strike="noStrike">
                <a:solidFill>
                  <a:srgbClr val="000000"/>
                </a:solidFill>
                <a:latin typeface="Tahoma"/>
              </a:rPr>
              <a:t>	</a:t>
            </a:r>
            <a:r>
              <a:rPr b="0" lang="tr-TR" sz="2400" spc="-1" strike="noStrike">
                <a:solidFill>
                  <a:srgbClr val="000000"/>
                </a:solidFill>
                <a:latin typeface="Tahoma"/>
              </a:rPr>
              <a:t>Çocuğun eğitsel performans düzey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a:t>
            </a:r>
            <a:r>
              <a:rPr b="0" lang="tr-TR" sz="2400" spc="-1" strike="noStrike">
                <a:solidFill>
                  <a:srgbClr val="000000"/>
                </a:solidFill>
                <a:latin typeface="Tahoma"/>
              </a:rPr>
              <a:t>	</a:t>
            </a:r>
            <a:r>
              <a:rPr b="0" lang="tr-TR" sz="2400" spc="-1" strike="noStrike">
                <a:solidFill>
                  <a:srgbClr val="000000"/>
                </a:solidFill>
                <a:latin typeface="Tahoma"/>
              </a:rPr>
              <a:t>Uygun eğitim ortamları ve bu ortamlarda sunulacak destek hizmetler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a:t>
            </a:r>
            <a:r>
              <a:rPr b="0" lang="tr-TR" sz="2400" spc="-1" strike="noStrike">
                <a:solidFill>
                  <a:srgbClr val="000000"/>
                </a:solidFill>
                <a:latin typeface="Tahoma"/>
              </a:rPr>
              <a:t>	</a:t>
            </a:r>
            <a:r>
              <a:rPr b="0" lang="tr-TR" sz="2400" spc="-1" strike="noStrike">
                <a:solidFill>
                  <a:srgbClr val="000000"/>
                </a:solidFill>
                <a:latin typeface="Tahoma"/>
              </a:rPr>
              <a:t>Bireyselleştirilmiş öğretim programının hazırlan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5.</a:t>
            </a:r>
            <a:r>
              <a:rPr b="0" lang="tr-TR" sz="2400" spc="-1" strike="noStrike">
                <a:solidFill>
                  <a:srgbClr val="000000"/>
                </a:solidFill>
                <a:latin typeface="Tahoma"/>
              </a:rPr>
              <a:t>	</a:t>
            </a:r>
            <a:r>
              <a:rPr b="0" lang="tr-TR" sz="2400" spc="-1" strike="noStrike">
                <a:solidFill>
                  <a:srgbClr val="000000"/>
                </a:solidFill>
                <a:latin typeface="Tahoma"/>
              </a:rPr>
              <a:t>Uzun ve kısa dönemli amaçları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6.</a:t>
            </a:r>
            <a:r>
              <a:rPr b="0" lang="tr-TR" sz="2400" spc="-1" strike="noStrike">
                <a:solidFill>
                  <a:srgbClr val="000000"/>
                </a:solidFill>
                <a:latin typeface="Tahoma"/>
              </a:rPr>
              <a:t>	</a:t>
            </a:r>
            <a:r>
              <a:rPr b="0" lang="tr-TR" sz="2400" spc="-1" strike="noStrike">
                <a:solidFill>
                  <a:srgbClr val="000000"/>
                </a:solidFill>
                <a:latin typeface="Tahoma"/>
              </a:rPr>
              <a:t>Uygun öğretim materyalleri ve öğretim yöntemler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7.</a:t>
            </a:r>
            <a:r>
              <a:rPr b="0" lang="tr-TR" sz="2400" spc="-1" strike="noStrike">
                <a:solidFill>
                  <a:srgbClr val="000000"/>
                </a:solidFill>
                <a:latin typeface="Tahoma"/>
              </a:rPr>
              <a:t>	</a:t>
            </a:r>
            <a:r>
              <a:rPr b="0" lang="tr-TR" sz="2400" spc="-1" strike="noStrike">
                <a:solidFill>
                  <a:srgbClr val="000000"/>
                </a:solidFill>
                <a:latin typeface="Tahoma"/>
              </a:rPr>
              <a:t>BEP’in uygulanması, izlenmesi ve değerlendirilmesi için sorumluların belirlenerek zaman çizelgesinin hazırlanması ve değerlendirme biçimine karar verilmesi.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F08A329-9E19-4110-95DC-9CE27B6FCA7C}" type="slidenum">
              <a:t>12</a:t>
            </a:fld>
          </a:p>
        </p:txBody>
      </p:sp>
      <p:sp>
        <p:nvSpPr>
          <p:cNvPr id="5" name="PlaceHolder 4"/>
          <p:cNvSpPr>
            <a:spLocks noGrp="1"/>
          </p:cNvSpPr>
          <p:nvPr>
            <p:ph type="dt" idx="1"/>
          </p:nvPr>
        </p:nvSpPr>
        <p:spPr/>
        <p:txBody>
          <a:bodyPr/>
          <a:p>
            <a:fld id="{75764D9C-A34C-482E-8554-6157216DE9ED}"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HAZIRLAMA AŞAMALARI</a:t>
            </a:r>
            <a:br>
              <a:rPr sz="2400"/>
            </a:br>
            <a:br>
              <a:rPr sz="2400"/>
            </a:br>
            <a:r>
              <a:rPr b="1" lang="en-US" sz="2400" spc="-1" strike="noStrike">
                <a:solidFill>
                  <a:srgbClr val="333399"/>
                </a:solidFill>
                <a:latin typeface="Tahoma"/>
              </a:rPr>
              <a:t>1. BEP HAZIRLAYACAK EKİBİN OLUŞTURULMASI</a:t>
            </a:r>
            <a:endParaRPr b="0" lang="en-US" sz="2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Özel eğitim ve kaynaştırma uygulamaları yapılan okul ve kurumlarda, özel eğitim gerektiren bireyler için, BEP’in geliştirilmesi, uygulanması, izlenmesi ve değerlendirilmesi amacıyla BEP geliştirme birimi oluşturulur. Bu birimlerin, yakın çevrelerinde birim kurulamayan kurumlardaki özel eğitim gerektiren bireylere de destek sağl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A60CDE0-5C16-46EC-9380-DB92CE5DF71B}" type="slidenum">
              <a:t>13</a:t>
            </a:fld>
          </a:p>
        </p:txBody>
      </p:sp>
      <p:sp>
        <p:nvSpPr>
          <p:cNvPr id="5" name="PlaceHolder 4"/>
          <p:cNvSpPr>
            <a:spLocks noGrp="1"/>
          </p:cNvSpPr>
          <p:nvPr>
            <p:ph type="dt" idx="1"/>
          </p:nvPr>
        </p:nvSpPr>
        <p:spPr/>
        <p:txBody>
          <a:bodyPr/>
          <a:p>
            <a:fld id="{7480B356-DE8E-4E1A-B054-648AF7587F7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ff66"/>
                </a:solidFill>
                <a:latin typeface="Tahoma"/>
              </a:rPr>
              <a:t>BEP’i BEP Geliştirme Birimi Hazırlar.</a:t>
            </a:r>
            <a:br>
              <a:rPr sz="4000"/>
            </a:br>
            <a:endParaRPr b="0" lang="en-US" sz="2800" spc="-1" strike="noStrike">
              <a:solidFill>
                <a:srgbClr val="333399"/>
              </a:solidFill>
              <a:latin typeface="Tahoma"/>
            </a:endParaRPr>
          </a:p>
        </p:txBody>
      </p:sp>
      <p:sp>
        <p:nvSpPr>
          <p:cNvPr id="167" name="PlaceHolder 2"/>
          <p:cNvSpPr>
            <a:spLocks noGrp="1"/>
          </p:cNvSpPr>
          <p:nvPr>
            <p:ph/>
          </p:nvPr>
        </p:nvSpPr>
        <p:spPr>
          <a:xfrm>
            <a:off x="1182600" y="1844280"/>
            <a:ext cx="7772400" cy="4287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99ff66"/>
                </a:solidFill>
                <a:latin typeface="Tahoma"/>
              </a:rPr>
              <a:t>	</a:t>
            </a:r>
            <a:r>
              <a:rPr b="0" lang="en-US" sz="2400" spc="-1" strike="noStrike">
                <a:solidFill>
                  <a:srgbClr val="99ff66"/>
                </a:solidFill>
                <a:latin typeface="Tahoma"/>
              </a:rPr>
              <a:t>Kurum müdürü veya görevlendireceği müdür yardımcısının başkanlığında,</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zerek özel eğitim görevi verilen öğretme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le,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hber öğretmen-psikolojik danışma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programları hazırlamakla görevli öğretm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nin sınıf öğretmeni veya hazırlanan programın içeriğine uygun branş öğretmen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ektiğinde izleme tanılama ve değerlendirme</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kibinden görevli bir kişiden oluşu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96C838E-0542-4FA4-AD92-A67608CD7A25}" type="slidenum">
              <a:t>14</a:t>
            </a:fld>
          </a:p>
        </p:txBody>
      </p:sp>
      <p:sp>
        <p:nvSpPr>
          <p:cNvPr id="5" name="PlaceHolder 4"/>
          <p:cNvSpPr>
            <a:spLocks noGrp="1"/>
          </p:cNvSpPr>
          <p:nvPr>
            <p:ph type="dt" idx="1"/>
          </p:nvPr>
        </p:nvSpPr>
        <p:spPr/>
        <p:txBody>
          <a:bodyPr/>
          <a:p>
            <a:fld id="{5C716A83-0994-42CE-B033-9AFC821847C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Bep Geliştirme Birimi Üyelerinin Görevleri Nelerdir?</a:t>
            </a:r>
            <a:br>
              <a:rPr sz="2800"/>
            </a:b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66"/>
                </a:solidFill>
                <a:latin typeface="Tahoma"/>
              </a:rPr>
              <a:t>	</a:t>
            </a:r>
            <a:r>
              <a:rPr b="1" lang="tr-TR" sz="2400" spc="-1" strike="noStrike">
                <a:solidFill>
                  <a:srgbClr val="99ff66"/>
                </a:solidFill>
                <a:latin typeface="Tahoma"/>
              </a:rPr>
              <a:t>Başka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imi oluşturur, üyeleri belirler, toplantıları planl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Bireyselleştirilmiş eğitim programı geliştirilmesi, uygulanması, izlenmesi ve değerlendirilmesi sürecinde, bireyin gereksinimleri doğrultusunda kurum içi düzenlemeleri yap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 Bireyselleştirilmiş eğitim programı geliştirilmesi sürecinde yapılan çalışmaları, değerlendirmeleri izler, gereksinim duyulan araç-gerecin geliştirilmesi veya sağlanması için özel eğitim hizmetleri kurulu ile eşgüdümlü çalışı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B76B40D-38FF-44FD-865A-B1EE58F519E6}" type="slidenum">
              <a:t>15</a:t>
            </a:fld>
          </a:p>
        </p:txBody>
      </p:sp>
      <p:sp>
        <p:nvSpPr>
          <p:cNvPr id="5" name="PlaceHolder 4"/>
          <p:cNvSpPr>
            <a:spLocks noGrp="1"/>
          </p:cNvSpPr>
          <p:nvPr>
            <p:ph type="dt" idx="1"/>
          </p:nvPr>
        </p:nvSpPr>
        <p:spPr/>
        <p:txBody>
          <a:bodyPr/>
          <a:p>
            <a:fld id="{A7B1F9DA-A6E0-470A-8994-05D946D293E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Gezerek Özel Eğitim Görevi Verilen Öğretmen</a:t>
            </a:r>
            <a:endParaRPr b="0" lang="en-US" sz="2800" spc="-1" strike="noStrike">
              <a:solidFill>
                <a:srgbClr val="333399"/>
              </a:solidFill>
              <a:latin typeface="Tahoma"/>
            </a:endParaRPr>
          </a:p>
        </p:txBody>
      </p:sp>
      <p:sp>
        <p:nvSpPr>
          <p:cNvPr id="171" name="PlaceHolder 2"/>
          <p:cNvSpPr>
            <a:spLocks noGrp="1"/>
          </p:cNvSpPr>
          <p:nvPr>
            <p:ph/>
          </p:nvPr>
        </p:nvSpPr>
        <p:spPr>
          <a:xfrm>
            <a:off x="457200" y="2060280"/>
            <a:ext cx="8229600" cy="40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urumun olanaklarına ve bireyin gereksinimlerine göre hazırlanan bireysel eğitim planlarını, kaynaştırma uygulamaları yapılan kurumlar ile özel eğitim kurumlarında uygul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Değerlendirme ölçeklerinin geliştirilmesinde görüşünü bildi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Gerektiğinde bireye, aileye, öğretmene ve kuruma bilgi veri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A4FA39E-3AE7-456E-AC68-9AEF18E1A879}" type="slidenum">
              <a:t>16</a:t>
            </a:fld>
          </a:p>
        </p:txBody>
      </p:sp>
      <p:sp>
        <p:nvSpPr>
          <p:cNvPr id="5" name="PlaceHolder 4"/>
          <p:cNvSpPr>
            <a:spLocks noGrp="1"/>
          </p:cNvSpPr>
          <p:nvPr>
            <p:ph type="dt" idx="1"/>
          </p:nvPr>
        </p:nvSpPr>
        <p:spPr/>
        <p:txBody>
          <a:bodyPr/>
          <a:p>
            <a:fld id="{AE99CCB1-90D6-406A-BFE7-0DD64BF7152C}"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ğretmen</a:t>
            </a:r>
            <a:endParaRPr b="0" lang="en-US" sz="3600" spc="-1" strike="noStrike">
              <a:solidFill>
                <a:srgbClr val="333399"/>
              </a:solidFill>
              <a:latin typeface="Tahoma"/>
            </a:endParaRPr>
          </a:p>
        </p:txBody>
      </p:sp>
      <p:sp>
        <p:nvSpPr>
          <p:cNvPr id="173"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masında, uygulanmasında ve değerlendirilmesinde etkin görev alı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Planlanan eğitim programlarını uygulamaya dönüştürü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Bireyin gelişimine göre yeni bireysel eğitim programı önerileri hazırlar.</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158F485-B2D5-4425-8050-1CF111195BD6}" type="slidenum">
              <a:t>17</a:t>
            </a:fld>
          </a:p>
        </p:txBody>
      </p:sp>
      <p:sp>
        <p:nvSpPr>
          <p:cNvPr id="5" name="PlaceHolder 4"/>
          <p:cNvSpPr>
            <a:spLocks noGrp="1"/>
          </p:cNvSpPr>
          <p:nvPr>
            <p:ph type="dt" idx="1"/>
          </p:nvPr>
        </p:nvSpPr>
        <p:spPr/>
        <p:txBody>
          <a:bodyPr/>
          <a:p>
            <a:fld id="{2CE69877-D91A-43C3-9A83-2B0D1403A954}"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07920"/>
            <a:ext cx="7792920" cy="86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tr-TR" sz="4000" spc="-1" strike="noStrike">
                <a:solidFill>
                  <a:srgbClr val="99ff66"/>
                </a:solidFill>
                <a:latin typeface="Tahoma"/>
              </a:rPr>
              <a:t>Aile</a:t>
            </a:r>
            <a:br>
              <a:rPr sz="4000"/>
            </a:br>
            <a:endParaRPr b="0" lang="en-US" sz="4000" spc="-1" strike="noStrike">
              <a:solidFill>
                <a:srgbClr val="333399"/>
              </a:solidFill>
              <a:latin typeface="Tahoma"/>
            </a:endParaRPr>
          </a:p>
        </p:txBody>
      </p:sp>
      <p:sp>
        <p:nvSpPr>
          <p:cNvPr id="175"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Bireyselleştirilmiş eğitim programının geliştirilmesi sürecinde gereksinimleri ileti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Çocuğu ile ilgili hedeflerini ve planlarını belirt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3.Eğitim programının uygulanması  sırasında çalışmalara etkin bir şekilde katılır, gerektiğinde eğitim araç gereç desteği sağla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40EA3862-B1B1-4EA6-87F4-56620CA16C0D}" type="slidenum">
              <a:t>18</a:t>
            </a:fld>
          </a:p>
        </p:txBody>
      </p:sp>
      <p:sp>
        <p:nvSpPr>
          <p:cNvPr id="5" name="PlaceHolder 4"/>
          <p:cNvSpPr>
            <a:spLocks noGrp="1"/>
          </p:cNvSpPr>
          <p:nvPr>
            <p:ph type="dt" idx="1"/>
          </p:nvPr>
        </p:nvSpPr>
        <p:spPr/>
        <p:txBody>
          <a:bodyPr/>
          <a:p>
            <a:fld id="{0C6AAD05-98C3-4EBB-B75B-81943D3B8DDC}"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zel Eğitim Gerektiren Birey</a:t>
            </a:r>
            <a:br>
              <a:rPr sz="3600"/>
            </a:br>
            <a:endParaRPr b="0" lang="en-US" sz="3600" spc="-1" strike="noStrike">
              <a:solidFill>
                <a:srgbClr val="333399"/>
              </a:solidFill>
              <a:latin typeface="Tahoma"/>
            </a:endParaRPr>
          </a:p>
        </p:txBody>
      </p:sp>
      <p:sp>
        <p:nvSpPr>
          <p:cNvPr id="177" name="PlaceHolder 2"/>
          <p:cNvSpPr>
            <a:spLocks noGrp="1"/>
          </p:cNvSpPr>
          <p:nvPr>
            <p:ph/>
          </p:nvPr>
        </p:nvSpPr>
        <p:spPr>
          <a:xfrm>
            <a:off x="457200" y="1989000"/>
            <a:ext cx="822960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ışı sırasında kendi gereksinim ve isteklerini belirt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Çalışmalara etkin biçimde katılı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Değerlendirme sonrasında çıkan eğitim önlemi ve yöneltme kararında isteğini belirti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E24F0C4-3663-420C-995C-5731DBBDD14D}" type="slidenum">
              <a:t>19</a:t>
            </a:fld>
          </a:p>
        </p:txBody>
      </p:sp>
      <p:sp>
        <p:nvSpPr>
          <p:cNvPr id="5" name="PlaceHolder 4"/>
          <p:cNvSpPr>
            <a:spLocks noGrp="1"/>
          </p:cNvSpPr>
          <p:nvPr>
            <p:ph type="dt" idx="1"/>
          </p:nvPr>
        </p:nvSpPr>
        <p:spPr/>
        <p:txBody>
          <a:bodyPr/>
          <a:p>
            <a:fld id="{5E020CAB-51F7-442F-BF4B-84C43729ABE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ireyselleştirilmiş eğitim programı nedir?</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3" name="PlaceHolder 2"/>
          <p:cNvSpPr>
            <a:spLocks noGrp="1"/>
          </p:cNvSpPr>
          <p:nvPr>
            <p:ph/>
          </p:nvPr>
        </p:nvSpPr>
        <p:spPr>
          <a:xfrm>
            <a:off x="971280" y="226692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ireyselleştirilmiş eğitim programı;</a:t>
            </a:r>
            <a:r>
              <a:rPr b="0" lang="en-US" sz="3200" spc="-1" strike="noStrike">
                <a:solidFill>
                  <a:srgbClr val="000000"/>
                </a:solidFill>
                <a:latin typeface="Arial"/>
              </a:rPr>
              <a:t> </a:t>
            </a:r>
            <a:r>
              <a:rPr b="0" lang="tr-TR" sz="3200" spc="-1" strike="noStrike">
                <a:solidFill>
                  <a:srgbClr val="000000"/>
                </a:solidFill>
                <a:latin typeface="Arial"/>
              </a:rPr>
              <a:t>özel gereksinimli öğrencilerin </a:t>
            </a:r>
            <a:r>
              <a:rPr b="0" lang="en-US" sz="3200" spc="-1" strike="noStrike">
                <a:solidFill>
                  <a:srgbClr val="000000"/>
                </a:solidFill>
                <a:latin typeface="Arial"/>
              </a:rPr>
              <a:t> </a:t>
            </a:r>
            <a:r>
              <a:rPr b="0" lang="tr-TR" sz="3200" spc="-1" strike="noStrike">
                <a:solidFill>
                  <a:srgbClr val="000000"/>
                </a:solidFill>
                <a:latin typeface="Arial"/>
              </a:rPr>
              <a:t>eğitsel gereksinimlerin karşılanmasından </a:t>
            </a:r>
            <a:r>
              <a:rPr b="0" lang="en-US" sz="3200" spc="-1" strike="noStrike">
                <a:solidFill>
                  <a:srgbClr val="000000"/>
                </a:solidFill>
                <a:latin typeface="Arial"/>
              </a:rPr>
              <a:t> </a:t>
            </a:r>
            <a:r>
              <a:rPr b="0" lang="tr-TR" sz="3200" spc="-1" strike="noStrike">
                <a:solidFill>
                  <a:srgbClr val="000000"/>
                </a:solidFill>
                <a:latin typeface="Arial"/>
              </a:rPr>
              <a:t>sorumlu olan aile, öğretmen ve</a:t>
            </a:r>
            <a:r>
              <a:rPr b="0" lang="en-US" sz="3200" spc="-1" strike="noStrike">
                <a:solidFill>
                  <a:srgbClr val="000000"/>
                </a:solidFill>
                <a:latin typeface="Arial"/>
              </a:rPr>
              <a:t> </a:t>
            </a:r>
            <a:r>
              <a:rPr b="0" lang="tr-TR" sz="3200" spc="-1" strike="noStrike">
                <a:solidFill>
                  <a:srgbClr val="000000"/>
                </a:solidFill>
                <a:latin typeface="Arial"/>
              </a:rPr>
              <a:t>diğer ekip üyelerine yardımcı olan bir araçt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F40FDB5-4C3A-4F47-8DDC-EF6DA70CBDDA}" type="slidenum">
              <a:t>2</a:t>
            </a:fld>
          </a:p>
        </p:txBody>
      </p:sp>
      <p:sp>
        <p:nvSpPr>
          <p:cNvPr id="5" name="PlaceHolder 4"/>
          <p:cNvSpPr>
            <a:spLocks noGrp="1"/>
          </p:cNvSpPr>
          <p:nvPr>
            <p:ph type="dt" idx="1"/>
          </p:nvPr>
        </p:nvSpPr>
        <p:spPr/>
        <p:txBody>
          <a:bodyPr/>
          <a:p>
            <a:fld id="{5DA89D1E-C42F-4A86-9CF5-CD09740DAD83}"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Rehber Öğretmen Psikolojik Danışman</a:t>
            </a:r>
            <a:endParaRPr b="0" lang="en-US" sz="3600" spc="-1" strike="noStrike">
              <a:solidFill>
                <a:srgbClr val="333399"/>
              </a:solidFill>
              <a:latin typeface="Tahoma"/>
            </a:endParaRPr>
          </a:p>
        </p:txBody>
      </p:sp>
      <p:sp>
        <p:nvSpPr>
          <p:cNvPr id="179"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r>
              <a:rPr b="1" lang="tr-TR" sz="3200" spc="-1" strike="noStrike">
                <a:solidFill>
                  <a:srgbClr val="99ff66"/>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in özel eğitim gereksinimleri doğrultusunda görüşünü belirtir ve bireye rehberlik yap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Bireyin gelişimini izle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09D2481-5E53-4AB7-9FEB-0DF98D1A7F31}" type="slidenum">
              <a:t>20</a:t>
            </a:fld>
          </a:p>
        </p:txBody>
      </p:sp>
      <p:sp>
        <p:nvSpPr>
          <p:cNvPr id="5" name="PlaceHolder 4"/>
          <p:cNvSpPr>
            <a:spLocks noGrp="1"/>
          </p:cNvSpPr>
          <p:nvPr>
            <p:ph type="dt" idx="1"/>
          </p:nvPr>
        </p:nvSpPr>
        <p:spPr/>
        <p:txBody>
          <a:bodyPr/>
          <a:p>
            <a:fld id="{3027BC7E-F310-4A8C-A1AF-21657CC791E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Eğitim Programları Hazırlamakla Görevlendirilen Öğretmen</a:t>
            </a:r>
            <a:endParaRPr b="0" lang="en-US" sz="3200" spc="-1" strike="noStrike">
              <a:solidFill>
                <a:srgbClr val="333399"/>
              </a:solidFill>
              <a:latin typeface="Tahoma"/>
            </a:endParaRPr>
          </a:p>
        </p:txBody>
      </p:sp>
      <p:sp>
        <p:nvSpPr>
          <p:cNvPr id="181"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eyselleştirilmiş eğitim programlarının hazırlanmasında, uygulanmasında ve değerlendirilmesinde etkin görev alır.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Değerlendirme ölçekleri geliştirir. Gereksinim duyulan araç-gerecin geliştirilmesi veya sağlanması için başkan ile eş güdümlü çalış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Bireyin gelişimine göre yeni bireyselleştirilmiş eğitim programı önerileri hazırl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Gerektiğinde bireye, aileye, öğretmene danışmanlık yapa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EC010D1-5249-480B-A5DD-7F0C4CB817E3}" type="slidenum">
              <a:t>21</a:t>
            </a:fld>
          </a:p>
        </p:txBody>
      </p:sp>
      <p:sp>
        <p:nvSpPr>
          <p:cNvPr id="5" name="PlaceHolder 4"/>
          <p:cNvSpPr>
            <a:spLocks noGrp="1"/>
          </p:cNvSpPr>
          <p:nvPr>
            <p:ph type="dt" idx="1"/>
          </p:nvPr>
        </p:nvSpPr>
        <p:spPr/>
        <p:txBody>
          <a:bodyPr/>
          <a:p>
            <a:fld id="{DE26E4AE-9DC8-4DDB-BBFD-8C72A7143A4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183"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nin o andaki eğitsel işlevde bulunma veya </a:t>
            </a:r>
            <a:r>
              <a:rPr b="1" lang="tr-TR" sz="2800" spc="-1" strike="noStrike" u="sng">
                <a:solidFill>
                  <a:srgbClr val="000000"/>
                </a:solidFill>
                <a:uFillTx/>
                <a:latin typeface="Arial"/>
              </a:rPr>
              <a:t>performans düzeyi</a:t>
            </a:r>
            <a:r>
              <a:rPr b="1" lang="en-US" sz="2800" spc="-1" strike="noStrike">
                <a:solidFill>
                  <a:srgbClr val="000000"/>
                </a:solidFill>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ğitsel performans düzeyi, bulunduğu gelişim evresi ve yaş gibi faktörleri dikkate alınarak belirlenen, bir yılın sonunda gerçekleşecek </a:t>
            </a:r>
            <a:r>
              <a:rPr b="1" lang="tr-TR" sz="2800" spc="-1" strike="noStrike" u="sng">
                <a:solidFill>
                  <a:srgbClr val="000000"/>
                </a:solidFill>
                <a:uFillTx/>
                <a:latin typeface="Arial"/>
              </a:rPr>
              <a:t>uzun dönemli amaçlar</a:t>
            </a:r>
            <a:r>
              <a:rPr b="0" lang="tr-TR" sz="2800" spc="-1" strike="noStrike" u="sng">
                <a:solidFill>
                  <a:srgbClr val="000000"/>
                </a:solidFill>
                <a:uFillTx/>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zun dönemli amaçlara ulaşmayı sağlayacak </a:t>
            </a:r>
            <a:r>
              <a:rPr b="1" lang="tr-TR" sz="2800" spc="-1" strike="noStrike" u="sng">
                <a:solidFill>
                  <a:srgbClr val="000000"/>
                </a:solidFill>
                <a:uFillTx/>
                <a:latin typeface="Arial"/>
              </a:rPr>
              <a:t>kısa dönemli amaçlar</a:t>
            </a:r>
            <a:r>
              <a:rPr b="0" lang="tr-TR" sz="2800" spc="-1" strike="noStrike" u="sng">
                <a:solidFill>
                  <a:srgbClr val="000000"/>
                </a:solidFill>
                <a:uFillTx/>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8F59A6-878D-49D9-B052-CC9DDE2F3846}" type="slidenum">
              <a:t>22</a:t>
            </a:fld>
          </a:p>
        </p:txBody>
      </p:sp>
      <p:sp>
        <p:nvSpPr>
          <p:cNvPr id="5" name="PlaceHolder 4"/>
          <p:cNvSpPr>
            <a:spLocks noGrp="1"/>
          </p:cNvSpPr>
          <p:nvPr>
            <p:ph type="dt" idx="1"/>
          </p:nvPr>
        </p:nvSpPr>
        <p:spPr/>
        <p:txBody>
          <a:bodyPr/>
          <a:p>
            <a:fld id="{15039628-267D-48C0-B4F6-2740C15B8061}"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ağlanabilecek </a:t>
            </a:r>
            <a:r>
              <a:rPr b="1" lang="tr-TR" sz="2900" spc="-1" strike="noStrike" u="sng">
                <a:solidFill>
                  <a:srgbClr val="000000"/>
                </a:solidFill>
                <a:uFillTx/>
                <a:latin typeface="Arial"/>
              </a:rPr>
              <a:t>özel eğitim ve destek hizmetler.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olan hizmetlerin ne zaman başlayacağını, devam edeceği ve biteceği süreyi, değerlendirme zamanlarını belirten bir </a:t>
            </a:r>
            <a:r>
              <a:rPr b="1" lang="tr-TR" sz="2900" spc="-1" strike="noStrike" u="sng">
                <a:solidFill>
                  <a:srgbClr val="000000"/>
                </a:solidFill>
                <a:uFillTx/>
                <a:latin typeface="Arial"/>
              </a:rPr>
              <a:t>zaman çizelgesi</a:t>
            </a:r>
            <a:r>
              <a:rPr b="0" lang="tr-TR" sz="2900" spc="-1" strike="noStrike">
                <a:solidFill>
                  <a:srgbClr val="000000"/>
                </a:solidFill>
                <a:latin typeface="Arial"/>
              </a:rPr>
              <a:t>.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hizmetlerden </a:t>
            </a:r>
            <a:r>
              <a:rPr b="1" lang="tr-TR" sz="2900" spc="-1" strike="noStrike" u="sng">
                <a:solidFill>
                  <a:srgbClr val="000000"/>
                </a:solidFill>
                <a:uFillTx/>
                <a:latin typeface="Arial"/>
              </a:rPr>
              <a:t>sorumlu olan kişiler</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BEP’in objektif ölçütlere dayalı olarak </a:t>
            </a:r>
            <a:r>
              <a:rPr b="1" lang="tr-TR" sz="2900" spc="-1" strike="noStrike" u="sng">
                <a:solidFill>
                  <a:srgbClr val="000000"/>
                </a:solidFill>
                <a:uFillTx/>
                <a:latin typeface="Arial"/>
              </a:rPr>
              <a:t>hangi araçlarla ve nasıl değerlendirileceği</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4" name="PlaceHolder 3"/>
          <p:cNvSpPr>
            <a:spLocks noGrp="1"/>
          </p:cNvSpPr>
          <p:nvPr>
            <p:ph type="sldNum" idx="3"/>
          </p:nvPr>
        </p:nvSpPr>
        <p:spPr/>
        <p:txBody>
          <a:bodyPr/>
          <a:p>
            <a:fld id="{56DD0995-0522-4978-9C67-58D3A7264E17}" type="slidenum">
              <a:t>23</a:t>
            </a:fld>
          </a:p>
        </p:txBody>
      </p:sp>
      <p:sp>
        <p:nvSpPr>
          <p:cNvPr id="5" name="PlaceHolder 4"/>
          <p:cNvSpPr>
            <a:spLocks noGrp="1"/>
          </p:cNvSpPr>
          <p:nvPr>
            <p:ph type="dt" idx="1"/>
          </p:nvPr>
        </p:nvSpPr>
        <p:spPr/>
        <p:txBody>
          <a:bodyPr/>
          <a:p>
            <a:fld id="{AE4B047F-35E6-427D-91C7-1AE01430BF54}"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ntılı değerlendirme sonuçlarına dayalı olarak hazırlanan, öğrencinin yapabildikleri ve yapamadıklarının betimlenmesidir.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erlemelerin görülebilmesi için performans düzeyinin betimlenmesi son derece önemlidir, çünkü bu betimlemeler değerlendirme sonuçlarının açık ve anlaşılır hale gelmesini sağla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ca, öğrencinin belirli gereksinimlerini tanımlamayı ve öncelik sırasına dizmeyi sağ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B3BC7FD-851F-46F0-91A2-023724818D39}" type="slidenum">
              <a:t>24</a:t>
            </a:fld>
          </a:p>
        </p:txBody>
      </p:sp>
      <p:sp>
        <p:nvSpPr>
          <p:cNvPr id="5" name="PlaceHolder 4"/>
          <p:cNvSpPr>
            <a:spLocks noGrp="1"/>
          </p:cNvSpPr>
          <p:nvPr>
            <p:ph type="dt" idx="1"/>
          </p:nvPr>
        </p:nvSpPr>
        <p:spPr/>
        <p:txBody>
          <a:bodyPr/>
          <a:p>
            <a:fld id="{EB10BE22-3AA6-4974-A3BE-FFC8F0D28458}"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devam)</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s düzeyinde yer alması gereke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rli bir alanda öğrencinin düzeyini akran grubu ile karşılaştıra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program alanlarına göre yapabildikleri ve yapamadıklarını belirten bilgiler</a:t>
            </a:r>
            <a:endParaRPr b="0" lang="en-US" sz="2800" spc="-1" strike="noStrike">
              <a:solidFill>
                <a:srgbClr val="000000"/>
              </a:solidFill>
              <a:latin typeface="Tahoma"/>
            </a:endParaRPr>
          </a:p>
          <a:p>
            <a:pPr marL="476280" indent="-4762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belirli bir müfredat programına katılımını gösteren bilgiler</a:t>
            </a:r>
            <a:r>
              <a:rPr b="0" lang="en-US" sz="3200" spc="-1" strike="noStrike">
                <a:solidFill>
                  <a:srgbClr val="000000"/>
                </a:solidFill>
                <a:latin typeface="Aria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DDC1953-61A4-4BBA-8D69-CCDD8FD14142}" type="slidenum">
              <a:t>25</a:t>
            </a:fld>
          </a:p>
        </p:txBody>
      </p:sp>
      <p:sp>
        <p:nvSpPr>
          <p:cNvPr id="5" name="PlaceHolder 4"/>
          <p:cNvSpPr>
            <a:spLocks noGrp="1"/>
          </p:cNvSpPr>
          <p:nvPr>
            <p:ph type="dt" idx="1"/>
          </p:nvPr>
        </p:nvSpPr>
        <p:spPr/>
        <p:txBody>
          <a:bodyPr/>
          <a:p>
            <a:fld id="{611CA06B-9A00-41CF-A10E-6FE33707E9B6}"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 Performans Düzeyi Örneği:</a:t>
            </a:r>
            <a:br>
              <a:rPr sz="2400"/>
            </a:br>
            <a:endParaRPr b="0" lang="en-US" sz="2400" spc="-1" strike="noStrike">
              <a:solidFill>
                <a:srgbClr val="333399"/>
              </a:solidFill>
              <a:latin typeface="Tahoma"/>
            </a:endParaRPr>
          </a:p>
        </p:txBody>
      </p:sp>
      <p:sp>
        <p:nvSpPr>
          <p:cNvPr id="191"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99ff66"/>
                </a:solidFill>
                <a:latin typeface="Tahoma"/>
              </a:rPr>
              <a:t>Öğrencinin şu anki performans düzeyi :</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usuf, 12 yaşında bir erkek öğrencidir. Yusuf konuşamamakta iletişim ihtiyaçlarını jest ve mimiklerle karşılamaktadır. Kişisel bakım ve temizlik becerilerine, giyinme-soyunma  becerilerine sahiptir. Tuvalet ihtiyaçlarını bağımsız olarak giderebilmektedir. Kendini, yakın çevresini tanıtabilmektedir. Hava sıcaklığına uygun giyinebilmektedir. Havada-karada olan doğa olaylarını ayıt edebilmektedir. Yusuf renk, şekil, zıtlık, yer, yön ve konum bildiren kavramları ayırt edebilmektedi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D26FCFA-02F8-476B-808B-5D2773383662}" type="slidenum">
              <a:t>26</a:t>
            </a:fld>
          </a:p>
        </p:txBody>
      </p:sp>
      <p:sp>
        <p:nvSpPr>
          <p:cNvPr id="5" name="PlaceHolder 4"/>
          <p:cNvSpPr>
            <a:spLocks noGrp="1"/>
          </p:cNvSpPr>
          <p:nvPr>
            <p:ph type="dt" idx="1"/>
          </p:nvPr>
        </p:nvSpPr>
        <p:spPr/>
        <p:txBody>
          <a:bodyPr/>
          <a:p>
            <a:fld id="{FBEFA18C-673E-4EE6-AFA1-4F07FA310D4B}"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8229600" cy="28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3"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akamları ayırt edebilmekte ve tek basamaklı bir sayı ile tek basamaklı bir sayıyı doğru olarak toplayabilmektedir. Sesin kaynağını bulabilmektedir. Nefes kontrolü çalışmaları  yapma, dinleme-izleme becerilerine sahiptir. Yazı araç-gereçlerini kullanabilmektedir. Çizgi çalışmaları yapma, sözcük yazma becerilerine sahiptir. Kendinin ve yakın çevresindeki kişilerin adlarını yazabilmektedir. Renkleri ayırt etmektedir. Boyama yapma,kağıt katlama, malzeme yapıştırma ve kağıt kesme becerilerine sahiptir. Vücudunun bölümlerini hareket ettirebilmektedir. Yerinde dönüşler yapma, top yuvarlama, spor araç-gereçlerini kullanma becerilerine sahiptir. Taşıtları-taşıtları kullananları ayırt edebilir. Yayayı-yolcuyu gösterebilmekte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73612EE-3954-4661-8621-854F363B6C17}" type="slidenum">
              <a:t>27</a:t>
            </a:fld>
          </a:p>
        </p:txBody>
      </p:sp>
      <p:sp>
        <p:nvSpPr>
          <p:cNvPr id="5" name="PlaceHolder 4"/>
          <p:cNvSpPr>
            <a:spLocks noGrp="1"/>
          </p:cNvSpPr>
          <p:nvPr>
            <p:ph type="dt" idx="1"/>
          </p:nvPr>
        </p:nvSpPr>
        <p:spPr/>
        <p:txBody>
          <a:bodyPr/>
          <a:p>
            <a:fld id="{8447A5E1-7C37-4472-B0F8-DBFCD85EA092}"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5"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Tahoma"/>
              </a:rPr>
              <a:t>	</a:t>
            </a:r>
            <a:r>
              <a:rPr b="0" i="1" lang="en-US" sz="2400" spc="-1" strike="noStrike">
                <a:solidFill>
                  <a:srgbClr val="99ff66"/>
                </a:solidFill>
                <a:latin typeface="Tahoma"/>
              </a:rPr>
              <a:t>Bu ölçümleme-özetleme bilgi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D.A. ve K.D.A. geliştirmek için gerekli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öğretim tekniklerini iyileştirmey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amaçlar doğrultusunda ilerlemesine yardım eder.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cak,BEP hazırlanması ve ölçümleme sonlandırılmamalıdır.Öğretmen çocukla ilgili veri toplamayı sürdü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EF5972B-379F-4DEB-9E03-B7E3A25C01AE}" type="slidenum">
              <a:t>28</a:t>
            </a:fld>
          </a:p>
        </p:txBody>
      </p:sp>
      <p:sp>
        <p:nvSpPr>
          <p:cNvPr id="5" name="PlaceHolder 4"/>
          <p:cNvSpPr>
            <a:spLocks noGrp="1"/>
          </p:cNvSpPr>
          <p:nvPr>
            <p:ph type="dt" idx="1"/>
          </p:nvPr>
        </p:nvSpPr>
        <p:spPr/>
        <p:txBody>
          <a:bodyPr/>
          <a:p>
            <a:fld id="{43258301-C337-4C9E-8D5A-B48D56627230}"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ve Kısa Dönemli Amaçlar</a:t>
            </a:r>
            <a:endParaRPr b="0" lang="en-US" sz="4400" spc="-1" strike="noStrike">
              <a:solidFill>
                <a:srgbClr val="333399"/>
              </a:solidFill>
              <a:latin typeface="Tahoma"/>
            </a:endParaRPr>
          </a:p>
        </p:txBody>
      </p:sp>
      <p:sp>
        <p:nvSpPr>
          <p:cNvPr id="197" name="PlaceHolder 2"/>
          <p:cNvSpPr>
            <a:spLocks noGrp="1"/>
          </p:cNvSpPr>
          <p:nvPr>
            <p:ph/>
          </p:nvPr>
        </p:nvSpPr>
        <p:spPr>
          <a:xfrm>
            <a:off x="1182600" y="2674800"/>
            <a:ext cx="7772400" cy="23846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zun dönemli amaç: Öğrencinin bir öğretim dönemi ya da bir öğretim yılı sonunda gerçekleştirmesi istenen davranışlardır. Yıllık amaçlar da denilebili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0AF5E46-5EAE-4D49-AD39-ABC25457B6D4}" type="slidenum">
              <a:t>29</a:t>
            </a:fld>
          </a:p>
        </p:txBody>
      </p:sp>
      <p:sp>
        <p:nvSpPr>
          <p:cNvPr id="5" name="PlaceHolder 4"/>
          <p:cNvSpPr>
            <a:spLocks noGrp="1"/>
          </p:cNvSpPr>
          <p:nvPr>
            <p:ph type="dt" idx="1"/>
          </p:nvPr>
        </p:nvSpPr>
        <p:spPr/>
        <p:txBody>
          <a:bodyPr/>
          <a:p>
            <a:fld id="{DEB975C4-3868-44D2-BFC7-8DBADA1014BB}"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NE DEĞİLDİR ?</a:t>
            </a:r>
            <a:br>
              <a:rPr sz="4000"/>
            </a:b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çalışma kâğıtlar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lnızca öğretmeni ilgilendiren bir çalışma program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ta problem olarak görülen öğrenciden kurtulma arac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i özel olarak etiketleyen bir karar dosyas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nin yalnız akademik performansıyla ilgilenen bir gelişim yada  kayıt tablosu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e ve aileye ek yükler getiren bir ekonomi program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ye yapabildiklerinden daha fazla ödev-çalışmayı zorunlu hale getiren bir ev ödevi-çalışma programı değildi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61090308-F420-489E-B4BC-266530C0D84B}" type="slidenum">
              <a:t>3</a:t>
            </a:fld>
          </a:p>
        </p:txBody>
      </p:sp>
      <p:sp>
        <p:nvSpPr>
          <p:cNvPr id="5" name="PlaceHolder 4"/>
          <p:cNvSpPr>
            <a:spLocks noGrp="1"/>
          </p:cNvSpPr>
          <p:nvPr>
            <p:ph type="dt" idx="1"/>
          </p:nvPr>
        </p:nvSpPr>
        <p:spPr/>
        <p:txBody>
          <a:bodyPr/>
          <a:p>
            <a:fld id="{E05EE4A9-CC77-419D-A5DB-D5A22914A666}"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zun dönemli amaçların seçiminde dikkat edilecek faktörler</a:t>
            </a:r>
            <a:endParaRPr b="0" lang="en-US" sz="3600" spc="-1" strike="noStrike">
              <a:solidFill>
                <a:srgbClr val="333399"/>
              </a:solidFill>
              <a:latin typeface="Tahoma"/>
            </a:endParaRPr>
          </a:p>
        </p:txBody>
      </p:sp>
      <p:sp>
        <p:nvSpPr>
          <p:cNvPr id="199"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ki başarısı</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tercih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çilen amaçları uygulanabilirliğ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likli gereksinim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ın kazanımı için ayrılan zama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9CD214F-9B20-4B47-AA3C-E8A7D54A30E7}" type="slidenum">
              <a:t>30</a:t>
            </a:fld>
          </a:p>
        </p:txBody>
      </p:sp>
      <p:sp>
        <p:nvSpPr>
          <p:cNvPr id="5" name="PlaceHolder 4"/>
          <p:cNvSpPr>
            <a:spLocks noGrp="1"/>
          </p:cNvSpPr>
          <p:nvPr>
            <p:ph type="dt" idx="1"/>
          </p:nvPr>
        </p:nvSpPr>
        <p:spPr/>
        <p:txBody>
          <a:bodyPr/>
          <a:p>
            <a:fld id="{D0332F1D-15F6-4927-99F7-6A8277398667}"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dönemli amaçların yazımı</a:t>
            </a:r>
            <a:endParaRPr b="0" lang="en-US" sz="4400" spc="-1" strike="noStrike">
              <a:solidFill>
                <a:srgbClr val="333399"/>
              </a:solidFill>
              <a:latin typeface="Tahoma"/>
            </a:endParaRPr>
          </a:p>
        </p:txBody>
      </p:sp>
      <p:sp>
        <p:nvSpPr>
          <p:cNvPr id="201" name="PlaceHolder 2"/>
          <p:cNvSpPr>
            <a:spLocks noGrp="1"/>
          </p:cNvSpPr>
          <p:nvPr>
            <p:ph/>
          </p:nvPr>
        </p:nvSpPr>
        <p:spPr>
          <a:xfrm>
            <a:off x="1940040" y="2225160"/>
            <a:ext cx="6906960" cy="37357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varolan performans düzeyi ile ilgili olmalıdı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 alanı açıkça tanımlan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 ölçülebilir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lamlı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sa dönemli amaçları kapsamal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7A13F1E-8D83-459B-AF89-09FCADEEAA89}" type="slidenum">
              <a:t>31</a:t>
            </a:fld>
          </a:p>
        </p:txBody>
      </p:sp>
      <p:sp>
        <p:nvSpPr>
          <p:cNvPr id="5" name="PlaceHolder 4"/>
          <p:cNvSpPr>
            <a:spLocks noGrp="1"/>
          </p:cNvSpPr>
          <p:nvPr>
            <p:ph type="dt" idx="1"/>
          </p:nvPr>
        </p:nvSpPr>
        <p:spPr/>
        <p:txBody>
          <a:bodyPr/>
          <a:p>
            <a:fld id="{742FFED0-DDC3-4E0A-BD96-FFC256BDD12A}"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ısa dönemli amaçlar ve yazımı</a:t>
            </a:r>
            <a:endParaRPr b="0" lang="en-US" sz="4400" spc="-1" strike="noStrike">
              <a:solidFill>
                <a:srgbClr val="333399"/>
              </a:solidFill>
              <a:latin typeface="Tahoma"/>
            </a:endParaRPr>
          </a:p>
        </p:txBody>
      </p:sp>
      <p:sp>
        <p:nvSpPr>
          <p:cNvPr id="203" name="PlaceHolder 2"/>
          <p:cNvSpPr>
            <a:spLocks noGrp="1"/>
          </p:cNvSpPr>
          <p:nvPr>
            <p:ph/>
          </p:nvPr>
        </p:nvSpPr>
        <p:spPr>
          <a:xfrm>
            <a:off x="1182240" y="2314440"/>
            <a:ext cx="745812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 ile uzun dönemli amaç arasında kalan ve daha kısa sürede gerçekleştirilen amaçlard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BA4258D-B904-4A07-8441-3138E9C96EFA}" type="slidenum">
              <a:t>32</a:t>
            </a:fld>
          </a:p>
        </p:txBody>
      </p:sp>
      <p:sp>
        <p:nvSpPr>
          <p:cNvPr id="5" name="PlaceHolder 4"/>
          <p:cNvSpPr>
            <a:spLocks noGrp="1"/>
          </p:cNvSpPr>
          <p:nvPr>
            <p:ph type="dt" idx="1"/>
          </p:nvPr>
        </p:nvSpPr>
        <p:spPr/>
        <p:txBody>
          <a:bodyPr/>
          <a:p>
            <a:fld id="{81994A4D-0857-41F3-961D-3FAFADA20566}"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ygun amaç yazımı</a:t>
            </a:r>
            <a:endParaRPr b="0" lang="en-US" sz="4400" spc="-1" strike="noStrike">
              <a:solidFill>
                <a:srgbClr val="333399"/>
              </a:solidFill>
              <a:latin typeface="Tahoma"/>
            </a:endParaRPr>
          </a:p>
        </p:txBody>
      </p:sp>
      <p:sp>
        <p:nvSpPr>
          <p:cNvPr id="205" name="PlaceHolder 2"/>
          <p:cNvSpPr>
            <a:spLocks noGrp="1"/>
          </p:cNvSpPr>
          <p:nvPr>
            <p:ph/>
          </p:nvPr>
        </p:nvSpPr>
        <p:spPr>
          <a:xfrm>
            <a:off x="1369800" y="21225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 işlevsel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çekçi ve başarılabilir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nim düzeyindeki davranışlarla sınırlandırılmamal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F9F92A0-3081-4398-BC94-2A24FCF646D1}" type="slidenum">
              <a:t>33</a:t>
            </a:fld>
          </a:p>
        </p:txBody>
      </p:sp>
      <p:sp>
        <p:nvSpPr>
          <p:cNvPr id="5" name="PlaceHolder 4"/>
          <p:cNvSpPr>
            <a:spLocks noGrp="1"/>
          </p:cNvSpPr>
          <p:nvPr>
            <p:ph type="dt" idx="1"/>
          </p:nvPr>
        </p:nvSpPr>
        <p:spPr/>
        <p:txBody>
          <a:bodyPr/>
          <a:p>
            <a:fld id="{16E54814-45A6-440C-8904-E76424E2124C}"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P sürecinde ekip üyelerinin işlevleri nelerdir?</a:t>
            </a:r>
            <a:endParaRPr b="0" lang="en-US" sz="3600" spc="-1" strike="noStrike">
              <a:solidFill>
                <a:srgbClr val="333399"/>
              </a:solidFill>
              <a:latin typeface="Tahoma"/>
            </a:endParaRPr>
          </a:p>
        </p:txBody>
      </p:sp>
      <p:sp>
        <p:nvSpPr>
          <p:cNvPr id="207" name="PlaceHolder 2"/>
          <p:cNvSpPr>
            <a:spLocks noGrp="1"/>
          </p:cNvSpPr>
          <p:nvPr>
            <p:ph/>
          </p:nvPr>
        </p:nvSpPr>
        <p:spPr>
          <a:xfrm>
            <a:off x="1042560" y="1827360"/>
            <a:ext cx="7777080" cy="4114800"/>
          </a:xfrm>
          <a:prstGeom prst="rect">
            <a:avLst/>
          </a:prstGeom>
          <a:noFill/>
          <a:ln w="0">
            <a:noFill/>
          </a:ln>
        </p:spPr>
        <p:txBody>
          <a:bodyPr lIns="90000" rIns="90000" tIns="46800" bIns="46800" anchor="t">
            <a:normAutofit fontScale="94000"/>
          </a:bodyPr>
          <a:p>
            <a:pPr marL="322200" indent="-322200">
              <a:lnSpc>
                <a:spcPct val="105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P sürecinde ekibin her üyesinin farklı işlevleri vardır. Sınıf öğretmeni, öğrenciyi akademik becerilerle ilgili değerlendirip bu konuda gereksinimleri, amaçları ve yöntemleri önerir. Okul rehber öğretmeni davranış sorunlarını belirleyebilir. Özel eğitim öğretmeni programın hem belli bölümlerinin uygulanmasından hem de programın izlenmesi ve değerlendirilmesinden sorumlu olabilir.</a:t>
            </a:r>
            <a:endParaRPr b="0" lang="en-US" sz="2900" spc="-1" strike="noStrike">
              <a:solidFill>
                <a:srgbClr val="000000"/>
              </a:solidFill>
              <a:latin typeface="Tahoma"/>
            </a:endParaRPr>
          </a:p>
          <a:p>
            <a:pPr marL="3222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4" name="PlaceHolder 3"/>
          <p:cNvSpPr>
            <a:spLocks noGrp="1"/>
          </p:cNvSpPr>
          <p:nvPr>
            <p:ph type="sldNum" idx="3"/>
          </p:nvPr>
        </p:nvSpPr>
        <p:spPr/>
        <p:txBody>
          <a:bodyPr/>
          <a:p>
            <a:fld id="{608EDF2D-E9B2-4977-9D44-452309F79171}" type="slidenum">
              <a:t>34</a:t>
            </a:fld>
          </a:p>
        </p:txBody>
      </p:sp>
      <p:sp>
        <p:nvSpPr>
          <p:cNvPr id="5" name="PlaceHolder 4"/>
          <p:cNvSpPr>
            <a:spLocks noGrp="1"/>
          </p:cNvSpPr>
          <p:nvPr>
            <p:ph type="dt" idx="1"/>
          </p:nvPr>
        </p:nvSpPr>
        <p:spPr/>
        <p:txBody>
          <a:bodyPr/>
          <a:p>
            <a:fld id="{B77F1AC2-7B9C-47F0-9F04-721699B542E1}"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sürecinde ekip üyelerinin işlevleri nelerdir?</a:t>
            </a:r>
            <a:r>
              <a:rPr b="1" lang="tr-TR" sz="3200" spc="-1" strike="noStrike">
                <a:solidFill>
                  <a:srgbClr val="333399"/>
                </a:solidFill>
                <a:latin typeface="Tahoma"/>
              </a:rPr>
              <a:t> (devam)</a:t>
            </a:r>
            <a:endParaRPr b="0" lang="en-US" sz="3200" spc="-1" strike="noStrike">
              <a:solidFill>
                <a:srgbClr val="333399"/>
              </a:solidFill>
              <a:latin typeface="Tahoma"/>
            </a:endParaRPr>
          </a:p>
        </p:txBody>
      </p:sp>
      <p:sp>
        <p:nvSpPr>
          <p:cNvPr id="209" name="PlaceHolder 2"/>
          <p:cNvSpPr>
            <a:spLocks noGrp="1"/>
          </p:cNvSpPr>
          <p:nvPr>
            <p:ph/>
          </p:nvPr>
        </p:nvSpPr>
        <p:spPr>
          <a:xfrm>
            <a:off x="1369800" y="2060640"/>
            <a:ext cx="73134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ğerlendirme öncesi yapılacak çalışmalar tamamlandıktan sonra öğrenci çok yönlü değerlendirilir. Değerlendirmeden elde edilen verileri tartışmak için BEP geliştirme ekibi toplanı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giler sınıflandırılır ve planlama için yazıya dökülü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gereksinimlerine cevap verebilecek eğitim ortamları belirlenir. Bu ortamlar öğrencinin anne babası ile birlikte gözden geçirilmelidir. Ekipteki uzmanlardan biri aileye bu çalışma için rehberlik etmelidi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un ve kısa dönemli amaçların belirlenmesi, özel eğitim ve destek hizmetler için zaman çizelgesinin hazırlanması, değerlendirme zamanlarına ve biçimine karar verilmesi için ekip toplantılar yap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toplantılara, anne babanın katılımı önemlidir. Ayrıca bu onların görevidi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408D2172-EA20-4558-A0F3-FF9D28963358}" type="slidenum">
              <a:t>35</a:t>
            </a:fld>
          </a:p>
        </p:txBody>
      </p:sp>
      <p:sp>
        <p:nvSpPr>
          <p:cNvPr id="5" name="PlaceHolder 4"/>
          <p:cNvSpPr>
            <a:spLocks noGrp="1"/>
          </p:cNvSpPr>
          <p:nvPr>
            <p:ph type="dt" idx="1"/>
          </p:nvPr>
        </p:nvSpPr>
        <p:spPr/>
        <p:txBody>
          <a:bodyPr/>
          <a:p>
            <a:fld id="{2AB0DDB7-25DE-46C2-B901-B2F220FB4496}"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sürecinde ekip üyelerinin işlevleri nelerdir?</a:t>
            </a:r>
            <a:r>
              <a:rPr b="1" lang="tr-TR" sz="4000" spc="-1" strike="noStrike">
                <a:solidFill>
                  <a:srgbClr val="333399"/>
                </a:solidFill>
                <a:latin typeface="Tahoma"/>
              </a:rPr>
              <a:t> (devam)</a:t>
            </a:r>
            <a:endParaRPr b="0" lang="en-US" sz="4000" spc="-1" strike="noStrike">
              <a:solidFill>
                <a:srgbClr val="333399"/>
              </a:solidFill>
              <a:latin typeface="Tahoma"/>
            </a:endParaRPr>
          </a:p>
        </p:txBody>
      </p:sp>
      <p:sp>
        <p:nvSpPr>
          <p:cNvPr id="211" name="PlaceHolder 2"/>
          <p:cNvSpPr>
            <a:spLocks noGrp="1"/>
          </p:cNvSpPr>
          <p:nvPr>
            <p:ph/>
          </p:nvPr>
        </p:nvSpPr>
        <p:spPr>
          <a:xfrm>
            <a:off x="1042920" y="1827000"/>
            <a:ext cx="7850160" cy="433836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özel gereksinim alanları, eğitim amaçları ve bu amaçların hangi ortamlarda kimlerin sorumluluğunda gerçekleşeceği belirlendikten sonra öğrenci bireyselleştirilmiş öğretim planları (BÖP) geliştirilir. BEP öğrencinin eğitim gereksinimlerinin genel bir planını içerirken BÖP gereksinim olan her alanda öğretimin ayrıntılı olarak planlanması anlamına gelir. Programda yer alan her bir amacın gerçekleştirilmesinden kimin sorumlu olduğunun mutlaka belirlenmesi gerekir. Eğer belirlenemezse bu öğrencinin gelişimine olumsuz yansıyabilir. Örneğin, kaynaştırmaya devam eden bunun yanı sıra destek hizmet alacak olan öğrencinin programında kimin neden sorumlu olduğu belirtilmezse sınıf öğretmeni bazı amaçları özel eğitim öğretmeninin sorumluluğunda, özel eğitim öğretmeni de sınıf öğretmeninin sorumluluğunda olduğunu düşünerek atlayabilir.</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B65F76B-AEA9-48F8-8559-14636B311D43}" type="slidenum">
              <a:t>36</a:t>
            </a:fld>
          </a:p>
        </p:txBody>
      </p:sp>
      <p:sp>
        <p:nvSpPr>
          <p:cNvPr id="5" name="PlaceHolder 4"/>
          <p:cNvSpPr>
            <a:spLocks noGrp="1"/>
          </p:cNvSpPr>
          <p:nvPr>
            <p:ph type="dt" idx="1"/>
          </p:nvPr>
        </p:nvSpPr>
        <p:spPr/>
        <p:txBody>
          <a:bodyPr/>
          <a:p>
            <a:fld id="{A0514B3D-5908-4631-B83B-17EEB4F3EB9C}"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980640"/>
            <a:ext cx="779328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ÖĞRETİM PLANI</a:t>
            </a:r>
            <a:br>
              <a:rPr sz="4000"/>
            </a:br>
            <a:endParaRPr b="0" lang="en-US" sz="2400" spc="-1" strike="noStrike">
              <a:solidFill>
                <a:srgbClr val="333399"/>
              </a:solidFill>
              <a:latin typeface="Tahoma"/>
            </a:endParaRPr>
          </a:p>
        </p:txBody>
      </p:sp>
      <p:sp>
        <p:nvSpPr>
          <p:cNvPr id="213"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	</a:t>
            </a:r>
            <a:r>
              <a:rPr b="1" lang="tr-TR" sz="2800" spc="-1" strike="noStrike">
                <a:solidFill>
                  <a:srgbClr val="99ff66"/>
                </a:solidFill>
                <a:latin typeface="Tahoma"/>
              </a:rPr>
              <a:t>BöP:</a:t>
            </a:r>
            <a:r>
              <a:rPr b="0" lang="tr-TR" sz="2800" spc="-1" strike="noStrike">
                <a:solidFill>
                  <a:srgbClr val="000000"/>
                </a:solidFill>
                <a:latin typeface="Tahoma"/>
              </a:rPr>
              <a:t> BEP’ te ,öğrencinin gereken davranışları kazanması için,öğrencinin ve çalışanların yapması gerekenleri ayrıntılı,belirgin ve açıkça ifade eden plandır Günlük,   haftalık</a:t>
            </a:r>
            <a:r>
              <a:rPr b="0" lang="tr-TR" sz="2800" spc="-1" strike="noStrike">
                <a:solidFill>
                  <a:srgbClr val="000000"/>
                </a:solidFill>
                <a:latin typeface="Tahoma"/>
              </a:rPr>
              <a:t>	</a:t>
            </a:r>
            <a:r>
              <a:rPr b="0" lang="tr-TR" sz="2800" spc="-1" strike="noStrike">
                <a:solidFill>
                  <a:srgbClr val="000000"/>
                </a:solidFill>
                <a:latin typeface="Tahoma"/>
              </a:rPr>
              <a:t> veya</a:t>
            </a:r>
            <a:r>
              <a:rPr b="0" lang="tr-TR" sz="2800" spc="-1" strike="noStrike">
                <a:solidFill>
                  <a:srgbClr val="000000"/>
                </a:solidFill>
                <a:latin typeface="Tahoma"/>
              </a:rPr>
              <a:t>	</a:t>
            </a:r>
            <a:r>
              <a:rPr b="0" lang="tr-TR" sz="2800" spc="-1" strike="noStrike">
                <a:solidFill>
                  <a:srgbClr val="000000"/>
                </a:solidFill>
                <a:latin typeface="Tahoma"/>
              </a:rPr>
              <a:t> aylık </a:t>
            </a:r>
            <a:r>
              <a:rPr b="0" lang="tr-TR" sz="2800" spc="-1" strike="noStrike">
                <a:solidFill>
                  <a:srgbClr val="000000"/>
                </a:solidFill>
                <a:latin typeface="Tahoma"/>
              </a:rPr>
              <a:t>	</a:t>
            </a:r>
            <a:r>
              <a:rPr b="0" lang="tr-TR" sz="2800" spc="-1" strike="noStrike">
                <a:solidFill>
                  <a:srgbClr val="000000"/>
                </a:solidFill>
                <a:latin typeface="Tahoma"/>
              </a:rPr>
              <a:t>olarak geliştirilebil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BÖP’ te işlenen amaçlar BEP’ teki kısa dönemli amaçlarımızdır. BEP’ te yer alan uzun dönemli amaçlara ulaşmak için kısa dönemli amaçlarımızı nasıl öğreteceğimiz konusunda bize yol gösterecek planlardı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44BBDEB-040A-4AB1-B948-880A7D5A0AE8}" type="slidenum">
              <a:t>37</a:t>
            </a:fld>
          </a:p>
        </p:txBody>
      </p:sp>
      <p:sp>
        <p:nvSpPr>
          <p:cNvPr id="5" name="PlaceHolder 4"/>
          <p:cNvSpPr>
            <a:spLocks noGrp="1"/>
          </p:cNvSpPr>
          <p:nvPr>
            <p:ph type="dt" idx="1"/>
          </p:nvPr>
        </p:nvSpPr>
        <p:spPr/>
        <p:txBody>
          <a:bodyPr/>
          <a:p>
            <a:fld id="{FF49F301-705F-46D7-8844-CBABB51D1CD2}"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28960" y="376200"/>
            <a:ext cx="679896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üm hizmet planları: bireyselleştirilmiş eğitim programı ve öğretim (uygulama) uyarlamaları</a:t>
            </a:r>
            <a:endParaRPr b="0" lang="en-US" sz="2400" spc="-1" strike="noStrike">
              <a:solidFill>
                <a:srgbClr val="333399"/>
              </a:solidFill>
              <a:latin typeface="Tahoma"/>
            </a:endParaRPr>
          </a:p>
        </p:txBody>
      </p:sp>
      <p:sp>
        <p:nvSpPr>
          <p:cNvPr id="215" name="PlaceHolder 2"/>
          <p:cNvSpPr>
            <a:spLocks noGrp="1"/>
          </p:cNvSpPr>
          <p:nvPr>
            <p:ph/>
          </p:nvPr>
        </p:nvSpPr>
        <p:spPr>
          <a:xfrm>
            <a:off x="1116000" y="1827360"/>
            <a:ext cx="77040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m hizmet planı, BEP’nın, bireysel öğretim (uygulama) planlarını da kapsayacak şekilde hazırlanmasıdır. Tüm hizmet planlarının birinci bölümünü BEP, ikinci bölümünü ise programın öğretime uyarlanması oluşturur. Öğretim uyarlamaları, çocuğun öğretiminden sorumlu öğretmen tarafından yapıl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9DBD78B-FCC9-46BB-8A5D-0EB72789AB14}" type="slidenum">
              <a:t>38</a:t>
            </a:fld>
          </a:p>
        </p:txBody>
      </p:sp>
      <p:sp>
        <p:nvSpPr>
          <p:cNvPr id="5" name="PlaceHolder 4"/>
          <p:cNvSpPr>
            <a:spLocks noGrp="1"/>
          </p:cNvSpPr>
          <p:nvPr>
            <p:ph type="dt" idx="1"/>
          </p:nvPr>
        </p:nvSpPr>
        <p:spPr/>
        <p:txBody>
          <a:bodyPr/>
          <a:p>
            <a:fld id="{EB949DD0-E175-482F-B6EC-F1DC6A2EC66E}"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Öğretim uyarlamaları (devam)</a:t>
            </a:r>
            <a:endParaRPr b="0" lang="en-US" sz="39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u uyarlamalar öğrencinin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P’nda belirlenen kısa dönemli amaçların günlük plana yerleştiril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ünlük rutinlerin özel gereksinimli çocuğa daha fazla öğretim zamanı kazandıracak şekilde planlan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fiziksel çevrenin düzenlen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iletişim fırsatlarının yaratılması ve kullan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öğretim tekniklerinin nasıl kullanılacağının açıkça yaz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onuçlarının kaydedilmesi ve değerlendirilmesini içerir. </a:t>
            </a:r>
            <a:endParaRPr b="0" lang="en-US" sz="2500" spc="-1" strike="noStrike">
              <a:solidFill>
                <a:srgbClr val="000000"/>
              </a:solidFill>
              <a:latin typeface="Tahoma"/>
            </a:endParaRPr>
          </a:p>
          <a:p>
            <a:pPr marL="3222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4" name="PlaceHolder 3"/>
          <p:cNvSpPr>
            <a:spLocks noGrp="1"/>
          </p:cNvSpPr>
          <p:nvPr>
            <p:ph type="sldNum" idx="3"/>
          </p:nvPr>
        </p:nvSpPr>
        <p:spPr/>
        <p:txBody>
          <a:bodyPr/>
          <a:p>
            <a:fld id="{0116D9CA-2A98-46FB-9A2B-9AD69A0E8959}" type="slidenum">
              <a:t>39</a:t>
            </a:fld>
          </a:p>
        </p:txBody>
      </p:sp>
      <p:sp>
        <p:nvSpPr>
          <p:cNvPr id="5" name="PlaceHolder 4"/>
          <p:cNvSpPr>
            <a:spLocks noGrp="1"/>
          </p:cNvSpPr>
          <p:nvPr>
            <p:ph type="dt" idx="1"/>
          </p:nvPr>
        </p:nvSpPr>
        <p:spPr/>
        <p:txBody>
          <a:bodyPr/>
          <a:p>
            <a:fld id="{EDFB02BA-A800-47BE-AB23-FB7C5B1462B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Neden Hazırlanmalı?</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Özel gereksinimli öğrencinin ona sunulan hizmetlerden en üst düzeyde yararlanması BEP hazırlama ve uygulama sürecinin sağlıklı işletilmesinden geçer.</a:t>
            </a:r>
            <a:endParaRPr b="0" lang="en-US" sz="3100" spc="-1" strike="noStrike">
              <a:solidFill>
                <a:srgbClr val="000000"/>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4" name="PlaceHolder 3"/>
          <p:cNvSpPr>
            <a:spLocks noGrp="1"/>
          </p:cNvSpPr>
          <p:nvPr>
            <p:ph type="sldNum" idx="3"/>
          </p:nvPr>
        </p:nvSpPr>
        <p:spPr/>
        <p:txBody>
          <a:bodyPr/>
          <a:p>
            <a:fld id="{5071FD58-DC65-448C-B1D7-E75F8AADF935}" type="slidenum">
              <a:t>4</a:t>
            </a:fld>
          </a:p>
        </p:txBody>
      </p:sp>
      <p:sp>
        <p:nvSpPr>
          <p:cNvPr id="5" name="PlaceHolder 4"/>
          <p:cNvSpPr>
            <a:spLocks noGrp="1"/>
          </p:cNvSpPr>
          <p:nvPr>
            <p:ph type="dt" idx="1"/>
          </p:nvPr>
        </p:nvSpPr>
        <p:spPr/>
        <p:txBody>
          <a:bodyPr/>
          <a:p>
            <a:fld id="{A2702CB0-E367-47AB-A67E-8D317B96AC6F}"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te yer alan amaçların günlük plana aktarılması</a:t>
            </a:r>
            <a:endParaRPr b="0" lang="en-US" sz="4400" spc="-1" strike="noStrike">
              <a:solidFill>
                <a:srgbClr val="333399"/>
              </a:solidFill>
              <a:latin typeface="Tahoma"/>
            </a:endParaRPr>
          </a:p>
        </p:txBody>
      </p:sp>
      <p:sp>
        <p:nvSpPr>
          <p:cNvPr id="219" name="PlaceHolder 2"/>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P’da yer alan amaçların öğretime uyarlanmasında öğrencinin tüm hizmet planında belirlenen yıllık ve kısa dönemli amaçları başarması için gereken strateji ve adımlar daha belirgin şekilde tanımlanır. Bu tanımlar öğretmenin günlük planlarında yerini bulur.</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 gereksinimli öğrenci için BEP’a dayalı gerekli uyarlamaların yapılması öğrencinin okulda aldığı gerçek öğretim programı ile BEP arasındaki bağlantıyı sağlamak gibi önemli bir yarara sahiptir. Gerek bireyselleştirilmiş eğitim programları gerekse özel gereksinimli öğrenciye uyarlanmış günlük planlarda temel bilgiler benzer olmakla birlikte bu bilgiler okulun, sınıfın koşullarına ve öğrencinin gereksinimlerine göre değişiklik gösterebilmektedi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AABD7333-7D1F-4846-848F-BF5C9FC8C830}" type="slidenum">
              <a:t>40</a:t>
            </a:fld>
          </a:p>
        </p:txBody>
      </p:sp>
      <p:sp>
        <p:nvSpPr>
          <p:cNvPr id="5" name="PlaceHolder 4"/>
          <p:cNvSpPr>
            <a:spLocks noGrp="1"/>
          </p:cNvSpPr>
          <p:nvPr>
            <p:ph type="dt" idx="1"/>
          </p:nvPr>
        </p:nvSpPr>
        <p:spPr/>
        <p:txBody>
          <a:bodyPr/>
          <a:p>
            <a:fld id="{BCB0BC54-4B5D-49E3-BC64-1973051CEA57}"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Özel gereksinimli öğrenciler için öğretim etkinliklerinin planlanması</a:t>
            </a:r>
            <a:endParaRPr b="0" lang="en-US" sz="3200" spc="-1" strike="noStrike">
              <a:solidFill>
                <a:srgbClr val="333399"/>
              </a:solidFill>
              <a:latin typeface="Tahoma"/>
            </a:endParaRPr>
          </a:p>
        </p:txBody>
      </p:sp>
      <p:sp>
        <p:nvSpPr>
          <p:cNvPr id="221" name="PlaceHolder 2"/>
          <p:cNvSpPr>
            <a:spLocks noGrp="1"/>
          </p:cNvSpPr>
          <p:nvPr>
            <p:ph/>
          </p:nvPr>
        </p:nvSpPr>
        <p:spPr>
          <a:xfrm>
            <a:off x="900000" y="1915920"/>
            <a:ext cx="7920000" cy="4322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ünlük planınızda </a:t>
            </a:r>
            <a:r>
              <a:rPr b="0" lang="en-US" sz="2000" spc="-1" strike="noStrike">
                <a:solidFill>
                  <a:srgbClr val="000000"/>
                </a:solidFill>
                <a:latin typeface="Arial"/>
              </a:rPr>
              <a:t>resim-iş</a:t>
            </a:r>
            <a:r>
              <a:rPr b="0" lang="tr-TR" sz="2000" spc="-1" strike="noStrike">
                <a:solidFill>
                  <a:srgbClr val="000000"/>
                </a:solidFill>
                <a:latin typeface="Arial"/>
              </a:rPr>
              <a:t> dersini planlıyorsunuz ve uzun dönemli amacınız “makasla kesme” becerisini geliştirmek. Sınıfınızda 12 öğrenci var. Bu öğrencilerinizin on tanesi normal planı izliyor. İki öğrenciniz ise özel gereksinimli ve onların bireyselleştirilmiş eğitim planlarında da “makasla kesme” becerisinin öğretimi amaçlanmış. Fakat her iki öğrencinizin düzeyi birbirinden farklı. Öğrencilerinizden biri (A) makası tutma, açma-kapama, rasgele kesme becerilerine sahip, diğeri öğrenci (B) ise henüz makası tutamıyor ve hatta makas tutmanın ön koşulu olabilecek baş ve işaret parmakları kapatıp açmaya dayalı “kerpeten” hareketini yapmakta beceriksiz. Böyle bir durumda planınıza üç amaç yerleştirmelisiniz. On öğrenciniz için ortak bir amaç, diğer iki öğrenciniz içinse ayrı ayrı iki amaç yazabilirsiniz.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DA990C27-E43B-445F-AB12-55D6ECFA55B0}" type="slidenum">
              <a:t>41</a:t>
            </a:fld>
          </a:p>
        </p:txBody>
      </p:sp>
      <p:sp>
        <p:nvSpPr>
          <p:cNvPr id="5" name="PlaceHolder 4"/>
          <p:cNvSpPr>
            <a:spLocks noGrp="1"/>
          </p:cNvSpPr>
          <p:nvPr>
            <p:ph type="dt" idx="1"/>
          </p:nvPr>
        </p:nvSpPr>
        <p:spPr/>
        <p:txBody>
          <a:bodyPr/>
          <a:p>
            <a:fld id="{98A0FDDA-3C3E-4ED8-8809-EB8634390BC6}"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ÖRNEK</a:t>
            </a:r>
            <a:endParaRPr b="0" lang="en-US" sz="3600" spc="-1" strike="noStrike">
              <a:solidFill>
                <a:srgbClr val="333399"/>
              </a:solidFill>
              <a:latin typeface="Tahoma"/>
            </a:endParaRPr>
          </a:p>
        </p:txBody>
      </p:sp>
      <p:sp>
        <p:nvSpPr>
          <p:cNvPr id="223" name="PlaceHolder 2"/>
          <p:cNvSpPr>
            <a:spLocks noGrp="1"/>
          </p:cNvSpPr>
          <p:nvPr>
            <p:ph/>
          </p:nvPr>
        </p:nvSpPr>
        <p:spPr>
          <a:xfrm>
            <a:off x="612720" y="2060640"/>
            <a:ext cx="820728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rs:</a:t>
            </a:r>
            <a:r>
              <a:rPr b="0" lang="tr-TR" sz="2000" spc="-1" strike="noStrike">
                <a:solidFill>
                  <a:srgbClr val="000000"/>
                </a:solidFill>
                <a:latin typeface="Arial"/>
              </a:rPr>
              <a:t> </a:t>
            </a:r>
            <a:r>
              <a:rPr b="0" lang="en-US" sz="2000" spc="-1" strike="noStrike">
                <a:solidFill>
                  <a:srgbClr val="000000"/>
                </a:solidFill>
                <a:latin typeface="Arial"/>
              </a:rPr>
              <a:t>Resim-iş</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eceri:</a:t>
            </a:r>
            <a:r>
              <a:rPr b="0" lang="tr-TR" sz="2000" spc="-1" strike="noStrike">
                <a:solidFill>
                  <a:srgbClr val="000000"/>
                </a:solidFill>
                <a:latin typeface="Arial"/>
              </a:rPr>
              <a:t> Makasla Kes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maç:</a:t>
            </a:r>
            <a:r>
              <a:rPr b="0" lang="tr-TR" sz="2000" spc="-1" strike="noStrike">
                <a:solidFill>
                  <a:srgbClr val="000000"/>
                </a:solidFill>
                <a:latin typeface="Arial"/>
              </a:rPr>
              <a:t>Öğrenciler verilen basit şekli makasla keserek çıkartırl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öğrencisi, kalın çizgiyi izleyerek 10x10 cm ebadındaki beş adet kağıdın dördünü hatasız makasla kes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öğrencisi, 10 adet küçük küpten(1x1cm) sekizini düşürmeden şeker maşası ile tutarak bir kaptan diğerine aktarı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Yöntem</a:t>
            </a:r>
            <a:r>
              <a:rPr b="0" lang="tr-TR" sz="2000" spc="-1" strike="noStrike">
                <a:solidFill>
                  <a:srgbClr val="000000"/>
                </a:solidFill>
                <a:latin typeface="Arial"/>
              </a:rPr>
              <a:t>Gerektiğinde öğrencilere sözel olarak yardım. Akran desteği</a:t>
            </a:r>
            <a:r>
              <a:rPr b="0" lang="en-US" sz="2000" spc="-1" strike="noStrike">
                <a:solidFill>
                  <a:srgbClr val="000000"/>
                </a:solidFill>
                <a:latin typeface="Arial"/>
              </a:rPr>
              <a:t>, </a:t>
            </a:r>
            <a:r>
              <a:rPr b="0" lang="tr-TR" sz="2000" spc="-1" strike="noStrike">
                <a:solidFill>
                  <a:srgbClr val="000000"/>
                </a:solidFill>
                <a:latin typeface="Arial"/>
              </a:rPr>
              <a:t>Öğretmen yardımcısı kendi araç setini kullanarak, eş zamanlı ipucu ile öğretim</a:t>
            </a:r>
            <a:r>
              <a:rPr b="0" lang="en-US" sz="2000" spc="-1" strike="noStrike">
                <a:solidFill>
                  <a:srgbClr val="000000"/>
                </a:solidFill>
                <a:latin typeface="Arial"/>
              </a:rPr>
              <a:t>.</a:t>
            </a:r>
            <a:r>
              <a:rPr b="0" lang="tr-TR" sz="2000" spc="-1" strike="noStrike">
                <a:solidFill>
                  <a:srgbClr val="000000"/>
                </a:solidFill>
                <a:latin typeface="Arial"/>
              </a:rPr>
              <a:t> Aşamalı yardı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D23FE42-DA27-4BB9-AD69-592E8CB8B79E}" type="slidenum">
              <a:t>42</a:t>
            </a:fld>
          </a:p>
        </p:txBody>
      </p:sp>
      <p:sp>
        <p:nvSpPr>
          <p:cNvPr id="5" name="PlaceHolder 4"/>
          <p:cNvSpPr>
            <a:spLocks noGrp="1"/>
          </p:cNvSpPr>
          <p:nvPr>
            <p:ph type="dt" idx="1"/>
          </p:nvPr>
        </p:nvSpPr>
        <p:spPr/>
        <p:txBody>
          <a:bodyPr/>
          <a:p>
            <a:fld id="{5C49240B-2539-4022-BD68-A7910F4E53CA}"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5" name=""/>
          <p:cNvGraphicFramePr/>
          <p:nvPr/>
        </p:nvGraphicFramePr>
        <p:xfrm>
          <a:off x="250920" y="189000"/>
          <a:ext cx="8642160" cy="6578280"/>
        </p:xfrm>
        <a:graphic>
          <a:graphicData uri="http://schemas.openxmlformats.org/drawingml/2006/table">
            <a:tbl>
              <a:tblPr/>
              <a:tblGrid>
                <a:gridCol w="2701800"/>
                <a:gridCol w="2543040"/>
                <a:gridCol w="773280"/>
                <a:gridCol w="984240"/>
                <a:gridCol w="655560"/>
                <a:gridCol w="984240"/>
              </a:tblGrid>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LÇÜLER  (26.03.2007-04.05.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OMETRİ      (07.05.2007-19.06.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Öğretim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kle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raç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ruml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ğerlendirm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Ölçüler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Geometrik şekille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çık anlatım yöntem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lat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 ol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ziksel Yard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özel İpuc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ru cev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ı çubuk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mli kart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k geometrik şekil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öğretme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otrol Listeler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lçü araç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Gözl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ğretmen Yapımı test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Standart olmayan uzunluk ölçüleriyle ölçme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Metrey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Litreyi ve yarım lit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Saat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Saati oku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Zaman ölçülerinden dakikayı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Paray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Eğri, doğru ve doğru parçasını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ik, paralel ve kesişen doğrular çiz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Ka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Kar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ikdört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ikdörtg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Üç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Daireyi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9"/>
          </p:nvPr>
        </p:nvSpPr>
        <p:spPr/>
        <p:txBody>
          <a:bodyPr/>
          <a:p>
            <a:fld id="{FC0D29A3-F495-44B2-BB19-E2842E18C169}" type="slidenum">
              <a:t>43</a:t>
            </a:fld>
          </a:p>
        </p:txBody>
      </p:sp>
      <p:sp>
        <p:nvSpPr>
          <p:cNvPr id="4" name="PlaceHolder 3"/>
          <p:cNvSpPr>
            <a:spLocks noGrp="1"/>
          </p:cNvSpPr>
          <p:nvPr>
            <p:ph type="dt" idx="7"/>
          </p:nvPr>
        </p:nvSpPr>
        <p:spPr/>
        <p:txBody>
          <a:bodyPr/>
          <a:p>
            <a:fld id="{494887D7-5BDF-4B20-B39B-2DC468E84061}"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7" name=""/>
          <p:cNvGraphicFramePr/>
          <p:nvPr/>
        </p:nvGraphicFramePr>
        <p:xfrm>
          <a:off x="468360" y="620640"/>
          <a:ext cx="8229600" cy="5535720"/>
        </p:xfrm>
        <a:graphic>
          <a:graphicData uri="http://schemas.openxmlformats.org/drawingml/2006/table">
            <a:tbl>
              <a:tblPr/>
              <a:tblGrid>
                <a:gridCol w="2058840"/>
                <a:gridCol w="2055960"/>
                <a:gridCol w="2057400"/>
                <a:gridCol w="20574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TMİK SAYMA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9.2006-03.11.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YI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11.2006-08.12.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ÜME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2.2006-26.01.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 </a:t>
                      </a:r>
                      <a:r>
                        <a:rPr b="1" lang="en-US" sz="1200" spc="-1" strike="noStrike">
                          <a:solidFill>
                            <a:srgbClr val="000000"/>
                          </a:solidFill>
                          <a:latin typeface="Times New Roman"/>
                          <a:ea typeface="Times New Roman"/>
                        </a:rPr>
                        <a:t>İŞLEML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2007-23.03.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 kadar ritmik sayma, yazma ve okum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Zaman, yer ve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plama ve çıkarma işlem yapma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6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Be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Ona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İki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Üç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örder 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 doğal sayısın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ki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üç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ört basamaklı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Tek ve çift doğal sayılar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k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Eşit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Boş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Sıra bildiren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 Tam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 Romen rakamların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oğal sayılarla eldesiz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oğal sayılarla eldeli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Toplama işlemi içeren problemleri kurma ve çözme becerisi geliş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Doğal sayılarla onluk bozmayı gerektirmeyen çıkar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oğal sayılarla onluk,yüzlük,binlik bozmayı gerektiren çıkarma işlemi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Çıkarma işlemi içeren problemleri kurma ve çözme becerisi geliş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D2A1A9D1-90EB-4A7B-AF9A-773C6FAC6322}" type="slidenum">
              <a:t>44</a:t>
            </a:fld>
          </a:p>
        </p:txBody>
      </p:sp>
      <p:sp>
        <p:nvSpPr>
          <p:cNvPr id="4" name="PlaceHolder 3"/>
          <p:cNvSpPr>
            <a:spLocks noGrp="1"/>
          </p:cNvSpPr>
          <p:nvPr>
            <p:ph type="dt" idx="7"/>
          </p:nvPr>
        </p:nvSpPr>
        <p:spPr/>
        <p:txBody>
          <a:bodyPr/>
          <a:p>
            <a:fld id="{19A6B761-B5F3-4B48-9EBF-F6301F57D03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9" name=""/>
          <p:cNvGraphicFramePr/>
          <p:nvPr/>
        </p:nvGraphicFramePr>
        <p:xfrm>
          <a:off x="324000" y="260280"/>
          <a:ext cx="8229600" cy="6197760"/>
        </p:xfrm>
        <a:graphic>
          <a:graphicData uri="http://schemas.openxmlformats.org/drawingml/2006/table">
            <a:tbl>
              <a:tblPr/>
              <a:tblGrid>
                <a:gridCol w="2444760"/>
                <a:gridCol w="57848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mati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2-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Ünite / Kon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d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rer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ranış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in Yapıldığı 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ç Gereç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 defter, kal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de Kullanılan Yöntem ve Teknik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ü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x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in İşleniş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ncilere bugün birer ritmik sayma yapılacağı konusu söylenir. Önce sınıfta ritmik sayma çalışması tarafımdan yapılır. Geriye ve ileriye doğru ritmik çalışma 100 e kadar yapılır. Öğrencilere tek tek 100 e kadar birer ritmik sayma çalışması yaptırılır. 100 den başlayarak geriye doğru ritmik sayma çalışması öğrencilerle tek tek yapılır. Öğrencilerin doğru davranışları pekiştirili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ğerlendir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biliyor mu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ukarda ki sorular öğrencilere tek tek uygulanacakt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ın Uygulanmasına ilişkin esas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amacına uygun işlenmiş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1DB1B792-35DE-4BA4-8EF1-E9C2A3997CE4}" type="slidenum">
              <a:t>45</a:t>
            </a:fld>
          </a:p>
        </p:txBody>
      </p:sp>
      <p:sp>
        <p:nvSpPr>
          <p:cNvPr id="4" name="PlaceHolder 3"/>
          <p:cNvSpPr>
            <a:spLocks noGrp="1"/>
          </p:cNvSpPr>
          <p:nvPr>
            <p:ph type="dt" idx="7"/>
          </p:nvPr>
        </p:nvSpPr>
        <p:spPr/>
        <p:txBody>
          <a:bodyPr/>
          <a:p>
            <a:fld id="{1B163C07-2259-43DD-AB28-24E6383BDDC7}"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1" name=""/>
          <p:cNvGraphicFramePr/>
          <p:nvPr/>
        </p:nvGraphicFramePr>
        <p:xfrm>
          <a:off x="250920" y="404640"/>
          <a:ext cx="8642160" cy="5832360"/>
        </p:xfrm>
        <a:graphic>
          <a:graphicData uri="http://schemas.openxmlformats.org/drawingml/2006/table">
            <a:tbl>
              <a:tblPr/>
              <a:tblGrid>
                <a:gridCol w="2568240"/>
                <a:gridCol w="6073920"/>
              </a:tblGrid>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emati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ı</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12-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Ünite / Ko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kişer. üçer ritmik say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ed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Üçer ritmik say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vranış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in Yapıldığı Y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raç Gereç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baküs, defter, kal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de Kullanılan Yöntem ve Teknik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samaklandırılmış yön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ü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x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in İşleni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Öğrencilerle daha önce çalışmış olduğumuz beşer ritmik sayma çalışması hatırlatılır. Bugünde sizlerle ikşer ritmik sayma ve üçer ritmik sayma çalışması yapacağız diyerek dikkatleri çekilir. Önce tarafımdan ikişer ritmik sayma yapılır. Verilen bir sayıdan başlayarak ritmik sayma çalışması yapılır. Daha sonra onar üçer ileriye ve geriye doğru ritmik sayama çalışması yapılır. Tarafımdan  tahtaya ikişer, üçer ritmik olarak 100 e kadar yazılır. Öğrencilerde defterlerine yazarlar. Öğrencilerin doğru davranışları pekiştirilir. Öğrencilere tek tek ikişer, üçer ritmik sayma çalışması yaptırılı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ğerlendi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lanın Uygulanmasına ilişkin esas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 amacına uygun işlenmişti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C8749C41-453E-49DF-ABA8-215FA3E6D22A}" type="slidenum">
              <a:t>46</a:t>
            </a:fld>
          </a:p>
        </p:txBody>
      </p:sp>
      <p:sp>
        <p:nvSpPr>
          <p:cNvPr id="4" name="PlaceHolder 3"/>
          <p:cNvSpPr>
            <a:spLocks noGrp="1"/>
          </p:cNvSpPr>
          <p:nvPr>
            <p:ph type="dt" idx="7"/>
          </p:nvPr>
        </p:nvSpPr>
        <p:spPr/>
        <p:txBody>
          <a:bodyPr/>
          <a:p>
            <a:fld id="{19AD3697-10B3-41E6-9F84-46757C4BBB0B}"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
          <p:cNvSpPr/>
          <p:nvPr/>
        </p:nvSpPr>
        <p:spPr>
          <a:xfrm>
            <a:off x="135000" y="-11520"/>
            <a:ext cx="88758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Cİ TANIMA FORM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ÖĞRENCİN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00"/>
                </a:solidFill>
                <a:latin typeface="Tahoma"/>
              </a:rPr>
              <a:t>Tarih:</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Serkan YILM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Tarihi: 21.12.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nsiyeti: Erk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gel Türü: Hafif düzeyde öğrenme güçlüğ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ha önce eğitim aldı mı?</a:t>
            </a:r>
            <a:r>
              <a:rPr b="1" lang="en-US" sz="1800" spc="-1" strike="noStrike">
                <a:solidFill>
                  <a:srgbClr val="000000"/>
                </a:solidFill>
                <a:latin typeface="Tahoma"/>
              </a:rPr>
              <a:t>	</a:t>
            </a:r>
            <a:r>
              <a:rPr b="1" lang="en-US" sz="1800" spc="-1" strike="noStrike">
                <a:solidFill>
                  <a:srgbClr val="000000"/>
                </a:solidFill>
                <a:latin typeface="Tahoma"/>
              </a:rPr>
              <a:t>(  ) Evet </a:t>
            </a:r>
            <a:r>
              <a:rPr b="1" lang="en-US" sz="1800" spc="-1" strike="noStrike">
                <a:solidFill>
                  <a:srgbClr val="000000"/>
                </a:solidFill>
                <a:latin typeface="Tahoma"/>
              </a:rPr>
              <a:t>	</a:t>
            </a:r>
            <a:r>
              <a:rPr b="1" lang="en-US" sz="1800" spc="-1" strike="noStrike">
                <a:solidFill>
                  <a:srgbClr val="000000"/>
                </a:solidFill>
                <a:latin typeface="Tahoma"/>
              </a:rPr>
              <a:t>( X ) Hay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dıysa hangi kurumda ne kadar sü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 okula ne kadar süredir devam ediyor: 4.Yı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örüşülen kiş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NNE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Ni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Ev Hanımı</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BA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Ah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Çiftçi</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VLİLİK DURUML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Akrabalık – ( X ) İlk Evlilik  -  (  ) İkinci Evlilik  -  (  ) Daha faz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ARDEŞ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nerede ve nasıl oldu? (  Zor- Kolay): Z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ilaç kullanıyor mu?  / Kullandığı ila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ne zaman yürümeye başladı?: 1.5 yaşı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3FBFFCD1-B070-4661-8DC1-D1C2ED3D650E}" type="slidenum">
              <a:t>47</a:t>
            </a:fld>
          </a:p>
        </p:txBody>
      </p:sp>
      <p:sp>
        <p:nvSpPr>
          <p:cNvPr id="5" name="PlaceHolder 4"/>
          <p:cNvSpPr>
            <a:spLocks noGrp="1"/>
          </p:cNvSpPr>
          <p:nvPr>
            <p:ph type="dt" idx="7"/>
          </p:nvPr>
        </p:nvSpPr>
        <p:spPr/>
        <p:txBody>
          <a:bodyPr/>
          <a:p>
            <a:fld id="{8F5DB1E1-7F73-4F2E-932F-4A07696CD2C3}"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
          <p:cNvSpPr/>
          <p:nvPr/>
        </p:nvSpPr>
        <p:spPr>
          <a:xfrm>
            <a:off x="481680" y="635400"/>
            <a:ext cx="516420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İLKOKUMA  YAZMA BECERİLERİ KONTROL LİST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 YAPAMAZ</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Y: YARDIMLA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UD:UYGUN DEĞ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8" name=""/>
          <p:cNvGraphicFramePr/>
          <p:nvPr/>
        </p:nvGraphicFramePr>
        <p:xfrm>
          <a:off x="1547640" y="1268280"/>
          <a:ext cx="5850000" cy="4943520"/>
        </p:xfrm>
        <a:graphic>
          <a:graphicData uri="http://schemas.openxmlformats.org/drawingml/2006/table">
            <a:tbl>
              <a:tblPr/>
              <a:tblGrid>
                <a:gridCol w="4983120"/>
                <a:gridCol w="86688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Yazmaya uygun şekilde o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 Yazma araçlarını uygun şekilde kullan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3. Çizgi çalışmaları yap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 Cüml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 Cüml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 Cümleyi sözcüklere ayır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 Sözcük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 Sözcük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 Sözcüklerden yeni cümle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0. Hec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1. Hec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2. Hece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3. Harf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4. Harfleri yaz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5. Harf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6. Kısa bir öyküyü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7. Öyküdeki soruları yanıt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8. İki kıtalık bir şiiri bakmadan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
          <p:cNvSpPr/>
          <p:nvPr/>
        </p:nvSpPr>
        <p:spPr>
          <a:xfrm>
            <a:off x="0" y="626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6A809898-C343-4354-97A8-00286E73B172}" type="slidenum">
              <a:t>48</a:t>
            </a:fld>
          </a:p>
        </p:txBody>
      </p:sp>
      <p:sp>
        <p:nvSpPr>
          <p:cNvPr id="5" name="PlaceHolder 4"/>
          <p:cNvSpPr>
            <a:spLocks noGrp="1"/>
          </p:cNvSpPr>
          <p:nvPr>
            <p:ph type="dt" idx="7"/>
          </p:nvPr>
        </p:nvSpPr>
        <p:spPr/>
        <p:txBody>
          <a:bodyPr/>
          <a:p>
            <a:fld id="{75BA0AFE-1C74-4B0A-8E09-6F74204392BE}"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ERFORMANS DÜZEY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K OKUMA – YAZMA BECERİLE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kan, yazmaya uygun şekilde oturmakta, yazma araçlarını uygun şekilde kullanmakta çizgi çalışmaları yapmakta, verilen fiş cümlelerini okuyup yazmakta, verilen fiş cümlelerini sözcüklerine ayırabilmekte, fiş cümlelerinin sözcüklerini, hecelerini, harflerini okuyup yazmakta,sözcüklerden yeni cümleler hecelerden de yeni sözcükler oluşturabilmektedir. Serkan,  kısa bir öyküyü okuyabilmekte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erkan, okuduğu hikayeyi anlatamamakta ve sorulan soruları yanıtlayamamaktadır. En az iki kıtalık bir şiiri ezberleyememekted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3A983B0B-57BF-4BB1-B287-7278E1E1C644}" type="slidenum">
              <a:t>49</a:t>
            </a:fld>
          </a:p>
        </p:txBody>
      </p:sp>
      <p:sp>
        <p:nvSpPr>
          <p:cNvPr id="5" name="PlaceHolder 4"/>
          <p:cNvSpPr>
            <a:spLocks noGrp="1"/>
          </p:cNvSpPr>
          <p:nvPr>
            <p:ph type="dt" idx="7"/>
          </p:nvPr>
        </p:nvSpPr>
        <p:spPr/>
        <p:txBody>
          <a:bodyPr/>
          <a:p>
            <a:fld id="{65838648-1AB1-4EAD-9C51-B11D61470671}"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P’ İ GEREKLİ KILAN NEDENLER</a:t>
            </a:r>
            <a:br>
              <a:rPr sz="2800"/>
            </a:b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el türü ve derecesi ne olursa olsun tüm bireyler öğrenebilir.</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Çocuklarda, dil, problem çözme, zihinsel süreçler, davranışsal özellikler ve öğrenme özellikleri birbirinden farklılık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nı ortamda yaşayan çocuklar bile farklıdır. Örneğin, aynı yaş grubunda olup aynı sınıfta eğitim gören çocukların bedensel gelişimleri ve davranışsal özellikleri farklılıklar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rıca, belirtilen bu özellikler her kişide aynı şekilde gelişmez ve bu gelişme de diğer kişilerden farklılık göster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lerin zayıf ve güçlü yönleri kendi içinde farklı ilerl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4DA87FA1-9419-43B6-A8A4-682DA4A947A9}" type="slidenum">
              <a:t>5</a:t>
            </a:fld>
          </a:p>
        </p:txBody>
      </p:sp>
      <p:sp>
        <p:nvSpPr>
          <p:cNvPr id="5" name="PlaceHolder 4"/>
          <p:cNvSpPr>
            <a:spLocks noGrp="1"/>
          </p:cNvSpPr>
          <p:nvPr>
            <p:ph type="dt" idx="1"/>
          </p:nvPr>
        </p:nvSpPr>
        <p:spPr/>
        <p:txBody>
          <a:bodyPr/>
          <a:p>
            <a:fld id="{2AE50EC4-F0E6-4514-A5C1-E14F22CF4FFF}"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ZET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tematik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ayıl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şlem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Geometrik şeki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 okuma yazma becer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sim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nk kavramı</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0E475035-A3E5-47AE-895C-D924E1E32366}" type="slidenum">
              <a:t>50</a:t>
            </a:fld>
          </a:p>
        </p:txBody>
      </p:sp>
      <p:sp>
        <p:nvSpPr>
          <p:cNvPr id="5" name="PlaceHolder 4"/>
          <p:cNvSpPr>
            <a:spLocks noGrp="1"/>
          </p:cNvSpPr>
          <p:nvPr>
            <p:ph type="dt" idx="7"/>
          </p:nvPr>
        </p:nvSpPr>
        <p:spPr/>
        <p:txBody>
          <a:bodyPr/>
          <a:p>
            <a:fld id="{C8EA77A3-7451-42C8-AA72-E2400AACFC10}"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NCELİĞ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OKUMA YAZMA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En az iki kıtalık bir şiiri ezbe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kısa bir hikayeyi anla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hikayedeki soruları yanıt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8E989F72-7330-4466-ABF8-6D7101B65FC6}" type="slidenum">
              <a:t>51</a:t>
            </a:fld>
          </a:p>
        </p:txBody>
      </p:sp>
      <p:sp>
        <p:nvSpPr>
          <p:cNvPr id="5" name="PlaceHolder 4"/>
          <p:cNvSpPr>
            <a:spLocks noGrp="1"/>
          </p:cNvSpPr>
          <p:nvPr>
            <p:ph type="dt" idx="7"/>
          </p:nvPr>
        </p:nvSpPr>
        <p:spPr/>
        <p:txBody>
          <a:bodyPr/>
          <a:p>
            <a:fld id="{F2D4D8EE-76CD-4D11-BA40-C67EDC6D9651}"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ZUN DÖNEMLİ AMAÇLAR</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na renkleri (kırmızı, sarı, mavi, yeşil)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ra renkleri (beyaz, siyah, pembe)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geometrik şekilleri (daire, üçgen, kare, dikdörtgen) gösterme ve adlarını söyleme beceriler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2’şer 2’ş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kadar 5’er 5’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nesneleri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tamamlanmamış sayılarda eksik olan sayıları söyl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1’er 1’er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 -, x, : sembollerini tanıma beceris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eldeli topla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deste bozarak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da deste bozmasız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kısa hikayeyi anlat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hikayedeki soruları yanıtl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bakmadan en az iki kıtalık şiiri ezbere oku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3CBCD9FC-9EC1-48AA-A862-1D1205C44829}" type="slidenum">
              <a:t>52</a:t>
            </a:fld>
          </a:p>
        </p:txBody>
      </p:sp>
      <p:sp>
        <p:nvSpPr>
          <p:cNvPr id="5" name="PlaceHolder 4"/>
          <p:cNvSpPr>
            <a:spLocks noGrp="1"/>
          </p:cNvSpPr>
          <p:nvPr>
            <p:ph type="dt" idx="7"/>
          </p:nvPr>
        </p:nvSpPr>
        <p:spPr/>
        <p:txBody>
          <a:bodyPr/>
          <a:p>
            <a:fld id="{D67E956A-AF39-4717-9512-C7A5AE115A02}"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
          <p:cNvSpPr/>
          <p:nvPr/>
        </p:nvSpPr>
        <p:spPr>
          <a:xfrm>
            <a:off x="324000" y="622800"/>
            <a:ext cx="8281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D.A:</a:t>
            </a:r>
            <a:r>
              <a:rPr b="0" i="1" lang="en-US" sz="1800" spc="-1" strike="noStrike">
                <a:solidFill>
                  <a:srgbClr val="000000"/>
                </a:solidFill>
                <a:latin typeface="Tahoma"/>
              </a:rPr>
              <a:t> Serkan, bağımsız olarak iki kıtalık bir şiiri bakmadan (ezber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1:</a:t>
            </a:r>
            <a:r>
              <a:rPr b="0" i="1" lang="en-US" sz="1800" spc="-1" strike="noStrike">
                <a:solidFill>
                  <a:srgbClr val="000000"/>
                </a:solidFill>
                <a:latin typeface="Tahoma"/>
              </a:rPr>
              <a:t> Öğrenci şiirin birinci kıtasının birinci mısrasını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2:</a:t>
            </a:r>
            <a:r>
              <a:rPr b="0" i="1" lang="en-US" sz="1800" spc="-1" strike="noStrike">
                <a:solidFill>
                  <a:srgbClr val="000000"/>
                </a:solidFill>
                <a:latin typeface="Tahoma"/>
              </a:rPr>
              <a:t> Öğrenci şiirin birinci kıtasının bir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kmadan bağımsız olarak %100 ölçütünd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3:</a:t>
            </a:r>
            <a:r>
              <a:rPr b="0" i="1" lang="en-US" sz="1800" spc="-1" strike="noStrike">
                <a:solidFill>
                  <a:srgbClr val="000000"/>
                </a:solidFill>
                <a:latin typeface="Tahoma"/>
              </a:rPr>
              <a:t> Öğrenci şiirin birinci kıtasının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4:</a:t>
            </a:r>
            <a:r>
              <a:rPr b="0" i="1" lang="en-US" sz="1800" spc="-1" strike="noStrike">
                <a:solidFill>
                  <a:srgbClr val="000000"/>
                </a:solidFill>
                <a:latin typeface="Tahoma"/>
              </a:rPr>
              <a:t> Öğrenci şiirin birinci kıtasının ik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5.</a:t>
            </a:r>
            <a:r>
              <a:rPr b="0" i="1" lang="en-US" sz="1800" spc="-1" strike="noStrike">
                <a:solidFill>
                  <a:srgbClr val="000000"/>
                </a:solidFill>
                <a:latin typeface="Tahoma"/>
              </a:rPr>
              <a:t> Öğrenci şiirin birinci ve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6.</a:t>
            </a:r>
            <a:r>
              <a:rPr b="0" i="1" lang="en-US" sz="1800" spc="-1" strike="noStrike">
                <a:solidFill>
                  <a:srgbClr val="000000"/>
                </a:solidFill>
                <a:latin typeface="Tahoma"/>
              </a:rPr>
              <a:t> Öğrenci şiirin birinci ve ikinci mısrasını bakmadan söyle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 mısrasını bağımsız olarak %100 ölçütünde bakmadan söyler.</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E229A1BD-DE48-4722-B78F-C94A4B86E9BE}" type="slidenum">
              <a:t>53</a:t>
            </a:fld>
          </a:p>
        </p:txBody>
      </p:sp>
      <p:sp>
        <p:nvSpPr>
          <p:cNvPr id="5" name="PlaceHolder 4"/>
          <p:cNvSpPr>
            <a:spLocks noGrp="1"/>
          </p:cNvSpPr>
          <p:nvPr>
            <p:ph type="dt" idx="7"/>
          </p:nvPr>
        </p:nvSpPr>
        <p:spPr/>
        <p:txBody>
          <a:bodyPr/>
          <a:p>
            <a:fld id="{F93F2E5F-56EE-4FEA-B8B4-342C5D5BA5BB}"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MER SOLAKLIOĞLU</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 MENSUCAT 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YHAN - ADAN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3560189-9D5C-4292-9A9F-76BD5FE6A870}" type="slidenum">
              <a:t>54</a:t>
            </a:fld>
          </a:p>
        </p:txBody>
      </p:sp>
      <p:sp>
        <p:nvSpPr>
          <p:cNvPr id="5" name="PlaceHolder 4"/>
          <p:cNvSpPr>
            <a:spLocks noGrp="1"/>
          </p:cNvSpPr>
          <p:nvPr>
            <p:ph type="dt" idx="7"/>
          </p:nvPr>
        </p:nvSpPr>
        <p:spPr/>
        <p:txBody>
          <a:bodyPr/>
          <a:p>
            <a:fld id="{64B68515-A9E7-48CE-BBC3-CD03CAE4935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İ GEREKLİ KILAN NEDENLER  (devam)</a:t>
            </a:r>
            <a:br>
              <a:rPr sz="2400"/>
            </a:br>
            <a:endParaRPr b="0" lang="en-US" sz="2400" spc="-1" strike="noStrike">
              <a:solidFill>
                <a:srgbClr val="333399"/>
              </a:solidFill>
              <a:latin typeface="Tahoma"/>
            </a:endParaRPr>
          </a:p>
        </p:txBody>
      </p:sp>
      <p:sp>
        <p:nvSpPr>
          <p:cNvPr id="151" name="PlaceHolder 2"/>
          <p:cNvSpPr>
            <a:spLocks noGrp="1"/>
          </p:cNvSpPr>
          <p:nvPr>
            <p:ph/>
          </p:nvPr>
        </p:nvSpPr>
        <p:spPr>
          <a:xfrm>
            <a:off x="395280" y="1959120"/>
            <a:ext cx="822960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çocukların kendi içindeki özellikleri ve davranışları da farklıdır. Örneğin, bir kişi spor etkinliklerinde çok başarılı; ancak sanatsal faaliyetlerde başarısız olabilir. BEP farklılıkları göze alarak bireyi geliştirmeyi hedefl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ın daha etkili olmasını sağlayabilmek için öğrencilerin aileleri ya da velileriyle erken, sürekli ve anlamlı ilişkiye girilmelid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ğrenciye evde ya da toplumda kendisinden beklenen davranışlar olarak nitelendirilen günlük yaşamında gerekli olan beceriler öğretilmelidi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D32B799-1781-494A-88A3-EC5FD1092630}" type="slidenum">
              <a:t>6</a:t>
            </a:fld>
          </a:p>
        </p:txBody>
      </p:sp>
      <p:sp>
        <p:nvSpPr>
          <p:cNvPr id="5" name="PlaceHolder 4"/>
          <p:cNvSpPr>
            <a:spLocks noGrp="1"/>
          </p:cNvSpPr>
          <p:nvPr>
            <p:ph type="dt" idx="1"/>
          </p:nvPr>
        </p:nvSpPr>
        <p:spPr/>
        <p:txBody>
          <a:bodyPr/>
          <a:p>
            <a:fld id="{F627357A-678F-4C98-B63C-3E7C2E92698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0080" y="306360"/>
            <a:ext cx="7165800" cy="8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in yasal dayanakları</a:t>
            </a:r>
            <a:endParaRPr b="0" lang="en-US" sz="4000" spc="-1" strike="noStrike">
              <a:solidFill>
                <a:srgbClr val="333399"/>
              </a:solidFill>
              <a:latin typeface="Tahoma"/>
            </a:endParaRPr>
          </a:p>
        </p:txBody>
      </p:sp>
      <p:sp>
        <p:nvSpPr>
          <p:cNvPr id="153" name="PlaceHolder 2"/>
          <p:cNvSpPr>
            <a:spLocks noGrp="1"/>
          </p:cNvSpPr>
          <p:nvPr>
            <p:ph/>
          </p:nvPr>
        </p:nvSpPr>
        <p:spPr>
          <a:xfrm>
            <a:off x="1464840" y="2305080"/>
            <a:ext cx="7410600" cy="2682720"/>
          </a:xfrm>
          <a:prstGeom prst="rect">
            <a:avLst/>
          </a:prstGeom>
          <a:noFill/>
          <a:ln w="0">
            <a:noFill/>
          </a:ln>
        </p:spPr>
        <p:txBody>
          <a:bodyPr lIns="90000" rIns="90000" tIns="46800" bIns="46800" anchor="t">
            <a:normAutofit fontScale="87000"/>
          </a:bodyPr>
          <a:p>
            <a:pPr marL="298440" indent="-29844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1997 yılında yürürlüğe giren 573 sayılı Özel Eğitim Hakkında Kanun Hükmünde Kararname’nin 4. maddesi f bendi, “Özel eğitim gerektiren bireyler için bireyselleştirilmiş eğitim planı geliştirilmesi ve eğitim programlarının bireyselleştirilerek uygulanması esastır.” diyerek BEP’in hazırlanmasını ve uygulanmasını zorunlu hale getirmiştir. </a:t>
            </a: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4" name="PlaceHolder 3"/>
          <p:cNvSpPr>
            <a:spLocks noGrp="1"/>
          </p:cNvSpPr>
          <p:nvPr>
            <p:ph type="sldNum" idx="3"/>
          </p:nvPr>
        </p:nvSpPr>
        <p:spPr/>
        <p:txBody>
          <a:bodyPr/>
          <a:p>
            <a:fld id="{6486A31B-FD7B-4441-B812-C04A7C5D9A71}" type="slidenum">
              <a:t>7</a:t>
            </a:fld>
          </a:p>
        </p:txBody>
      </p:sp>
      <p:sp>
        <p:nvSpPr>
          <p:cNvPr id="5" name="PlaceHolder 4"/>
          <p:cNvSpPr>
            <a:spLocks noGrp="1"/>
          </p:cNvSpPr>
          <p:nvPr>
            <p:ph type="dt" idx="1"/>
          </p:nvPr>
        </p:nvSpPr>
        <p:spPr/>
        <p:txBody>
          <a:bodyPr/>
          <a:p>
            <a:fld id="{645F1160-FDCB-4BA4-8138-06494A668DBF}"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İN YARARLARI </a:t>
            </a:r>
            <a:br>
              <a:rPr sz="3200"/>
            </a:b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eğitim hizmetlerinin sunulması,</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ve gerçekçi amaçların belirlenmes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 amaçlarının karşılanıp karşılanmadığını ortaya koymak olarak sıralanabili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BEP’ in yararları, ebeveyn, çocuk, öğretmen ve toplum açısından da sıralanabili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9F9DA90-8466-4A85-A78B-5BF30E2D3A29}" type="slidenum">
              <a:t>8</a:t>
            </a:fld>
          </a:p>
        </p:txBody>
      </p:sp>
      <p:sp>
        <p:nvSpPr>
          <p:cNvPr id="5" name="PlaceHolder 4"/>
          <p:cNvSpPr>
            <a:spLocks noGrp="1"/>
          </p:cNvSpPr>
          <p:nvPr>
            <p:ph type="dt" idx="1"/>
          </p:nvPr>
        </p:nvSpPr>
        <p:spPr/>
        <p:txBody>
          <a:bodyPr/>
          <a:p>
            <a:fld id="{6AF2D183-A0E4-47D7-A1CF-10D279ECCD6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nci açısından;</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99ff66"/>
                </a:solidFill>
                <a:uFillTx/>
                <a:latin typeface="Tahoma"/>
              </a:rPr>
              <a:t>1.Öğrenci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engelinden kaynaklanan farklı </a:t>
            </a:r>
            <a:r>
              <a:rPr b="0" lang="en-US" sz="2400" spc="-1" strike="noStrike">
                <a:solidFill>
                  <a:srgbClr val="000000"/>
                </a:solidFill>
                <a:latin typeface="Tahoma"/>
              </a:rPr>
              <a:t>	</a:t>
            </a:r>
            <a:r>
              <a:rPr b="0" lang="en-US" sz="2400" spc="-1" strike="noStrike">
                <a:solidFill>
                  <a:srgbClr val="000000"/>
                </a:solidFill>
                <a:latin typeface="Tahoma"/>
              </a:rPr>
              <a:t>gereksinimlerin neler olduğu belirlenir ve </a:t>
            </a:r>
            <a:r>
              <a:rPr b="0" lang="en-US" sz="2400" spc="-1" strike="noStrike">
                <a:solidFill>
                  <a:srgbClr val="000000"/>
                </a:solidFill>
                <a:latin typeface="Tahoma"/>
              </a:rPr>
              <a:t>	</a:t>
            </a:r>
            <a:r>
              <a:rPr b="0" lang="en-US" sz="2400" spc="-1" strike="noStrike">
                <a:solidFill>
                  <a:srgbClr val="000000"/>
                </a:solidFill>
                <a:latin typeface="Tahoma"/>
              </a:rPr>
              <a:t>sağlanacak özel eğitim hizmetleriyle öğrencinin </a:t>
            </a:r>
            <a:r>
              <a:rPr b="0" lang="en-US" sz="2400" spc="-1" strike="noStrike">
                <a:solidFill>
                  <a:srgbClr val="000000"/>
                </a:solidFill>
                <a:latin typeface="Tahoma"/>
              </a:rPr>
              <a:t>	</a:t>
            </a:r>
            <a:r>
              <a:rPr b="0" lang="en-US" sz="2400" spc="-1" strike="noStrike">
                <a:solidFill>
                  <a:srgbClr val="000000"/>
                </a:solidFill>
                <a:latin typeface="Tahoma"/>
              </a:rPr>
              <a:t>bilgi ve beceri eksiklerinin nasıl giderileceği açığa </a:t>
            </a:r>
            <a:r>
              <a:rPr b="0" lang="en-US" sz="2400" spc="-1" strike="noStrike">
                <a:solidFill>
                  <a:srgbClr val="000000"/>
                </a:solidFill>
                <a:latin typeface="Tahoma"/>
              </a:rPr>
              <a:t>	</a:t>
            </a:r>
            <a:r>
              <a:rPr b="0" lang="en-US" sz="2400" spc="-1" strike="noStrike">
                <a:solidFill>
                  <a:srgbClr val="000000"/>
                </a:solidFill>
                <a:latin typeface="Tahoma"/>
              </a:rPr>
              <a:t>kavuşturulu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EP bireyi bağımsız bir yaşama hazırla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F509E79-A058-4D15-9B3B-F6D8CDA22D09}" type="slidenum">
              <a:t>9</a:t>
            </a:fld>
          </a:p>
        </p:txBody>
      </p:sp>
      <p:sp>
        <p:nvSpPr>
          <p:cNvPr id="5" name="PlaceHolder 4"/>
          <p:cNvSpPr>
            <a:spLocks noGrp="1"/>
          </p:cNvSpPr>
          <p:nvPr>
            <p:ph type="dt" idx="1"/>
          </p:nvPr>
        </p:nvSpPr>
        <p:spPr/>
        <p:txBody>
          <a:bodyPr/>
          <a:p>
            <a:fld id="{FC9DA4A6-DD1F-486E-9FB2-936189F4C9C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0:02:16Z</dcterms:created>
  <dc:creator>Administrator</dc:creator>
  <dc:description/>
  <dc:language>en-US</dc:language>
  <cp:lastModifiedBy>avrenus</cp:lastModifiedBy>
  <dcterms:modified xsi:type="dcterms:W3CDTF">2007-02-17T21:54:24Z</dcterms:modified>
  <cp:revision>69</cp:revision>
  <dc:subject/>
  <dc:title>BİREYSELLEŞTİRİLMİŞ EĞİTİM PROGRAMLARININ GELİŞTİRİLMESİ</dc:title>
</cp:coreProperties>
</file>