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FB33BF-104E-40BF-A4EF-3CBAD6F7A4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A64AA-FECB-4EF6-A12E-34EDC4D5C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E1D0D2-35E5-4E37-9020-777C88BE2C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C1C2BA-D997-4F40-A902-B2BAF617BE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B7920A-5C87-4D2B-8053-66F1D06B35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635B5D-E9A3-4F02-BC25-74F07A99E2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6EA1E8-B508-452D-A66F-131B6007ED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B1FCC5-DFA7-4D7C-BC56-DE9F50024A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830686-9E4C-4AA1-BD57-C07E0EF1E9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4D3614-8A93-4718-AABA-F6902D213B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109A38-6FEA-4499-9D85-4F1972A4F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0DC62-41EC-4CA9-91A4-D44B588F8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E0100-6E83-4658-ADC0-4F9F61A437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B6EC71-F709-4C1D-9B88-D5D80BFFC2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3C42DB-0F29-4441-A181-07930ADA59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EA17CA-667C-442F-9DA4-D56170D45C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D1ABD8-4EE0-41B6-9C1F-84FACF9E3C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CA92D-BD1A-4C1A-95B7-B1EE9D2BF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EB47B1-F8CC-41B8-AE7D-A65F0C0D8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9DC1E-F9A6-410D-8CBB-A6D5498EA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04B38-E407-4091-BDE0-712269C5E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6A7BE-EE3C-4160-95C6-CD0A46492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50246-A746-4B2A-BBF2-415CE5843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4C332-F47B-408F-B0DC-AA816F353A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FC5D3-94C8-4BFB-9B0C-62F319F44C68}" type="slidenum">
              <a:rPr b="0" lang="tr-TR"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ACCC2-DCCD-441E-AA85-D8161FD850F7}" type="slidenum">
              <a:rPr b="0" lang="tr-TR"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cc66ff"/>
                </a:solidFill>
                <a:latin typeface="Franklin Gothic Heavy"/>
              </a:rPr>
              <a:t>Özel Eğitimde Bireyselleştirilmiş Eğitim Programları Geliştirme Semineri</a:t>
            </a:r>
            <a:br>
              <a:rPr sz="3200"/>
            </a:br>
            <a:br>
              <a:rPr sz="3200"/>
            </a:br>
            <a:r>
              <a:rPr b="0" lang="tr-TR" sz="2400" spc="-1" strike="noStrike">
                <a:solidFill>
                  <a:srgbClr val="009900"/>
                </a:solidFill>
                <a:latin typeface="Franklin Gothic Heavy"/>
              </a:rPr>
              <a:t> Esenköy Hizmet-içi Eğitim Enstitüsü  - Yalova</a:t>
            </a:r>
            <a:endParaRPr b="0" lang="en-US" sz="2400" spc="-1" strike="noStrike">
              <a:solidFill>
                <a:srgbClr val="006633"/>
              </a:solidFill>
              <a:latin typeface="Garamond"/>
            </a:endParaRPr>
          </a:p>
        </p:txBody>
      </p:sp>
      <p:sp>
        <p:nvSpPr>
          <p:cNvPr id="87" name="PlaceHolder 2"/>
          <p:cNvSpPr>
            <a:spLocks noGrp="1"/>
          </p:cNvSpPr>
          <p:nvPr>
            <p:ph type="subTitle"/>
          </p:nvPr>
        </p:nvSpPr>
        <p:spPr>
          <a:xfrm>
            <a:off x="1331640" y="5157360"/>
            <a:ext cx="6553080" cy="55404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Bodoni MT Black"/>
              </a:rPr>
              <a:t>Yrd. Doç. Dr. Hakan SARI</a:t>
            </a:r>
            <a:endParaRPr b="0" lang="en-US" sz="2800" spc="-1" strike="noStrike">
              <a:solidFill>
                <a:srgbClr val="000000"/>
              </a:solidFill>
              <a:latin typeface="Arial"/>
            </a:endParaRPr>
          </a:p>
        </p:txBody>
      </p:sp>
      <p:sp>
        <p:nvSpPr>
          <p:cNvPr id="88" name=""/>
          <p:cNvSpPr/>
          <p:nvPr/>
        </p:nvSpPr>
        <p:spPr>
          <a:xfrm>
            <a:off x="2411280" y="4149720"/>
            <a:ext cx="511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18-22 Temmuz 20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9966"/>
                </a:solidFill>
                <a:latin typeface="Arial"/>
              </a:rPr>
              <a:t>2. Yıllık Amaçla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00"/>
                </a:solidFill>
                <a:latin typeface="Arial"/>
              </a:rPr>
              <a:t>Bu amaçlar çocuğun bir yılda başarabileceği  amaçlar olmalıdır.  Bu amaçlar kısa dönemli amaçlara veya daha küçük parçalara sırasıyla sıralanır. Yıllık amaçlar  akademik,  sosyal veya davranışsal,  fiziksel  veya diğer eğitsel ihtiyaçlarla ilgili olabilir. Amaçlar çocuğun başarıp başarmadığını anlamak için gözlenebilir ve ölçülebilir  olmalıdı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cc66ff"/>
                </a:solidFill>
                <a:latin typeface="Arial"/>
              </a:rPr>
              <a:t>3. Özel eğitimle ilgili hizmetle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9966"/>
                </a:solidFill>
                <a:latin typeface="Arial"/>
              </a:rPr>
              <a:t>BEP’te çocuğa verilecek hizmetler veya çocuk adına yapılacak hizmetler listelenmelidir. Bunlar:  araç  gereçler,  programdaki değişimler,  okul  personeli için destek hizmetleri, örneğin hizmet-içi eğitim gibi. Bunlar çocuğun gelişimine yardımcı olacaktır.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66ff"/>
                </a:solidFill>
                <a:latin typeface="Arial"/>
              </a:rPr>
              <a:t>4. Engelli olmayanlarla  katılım</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BEP çocuğun diğer öğrencilerle ne kadar birlikte olamayacağını da açıklamalıdır.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66ff"/>
                </a:solidFill>
                <a:latin typeface="Arial"/>
              </a:rPr>
              <a:t>5. Bölgesel veya tüm ülkede uygulanan testlere katılıp katılamayacağını bildirmelidir</a:t>
            </a:r>
            <a:r>
              <a:rPr b="0" lang="tr-TR"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BEP’te çocuğa verilecek testlerde ne tür bir değişiklik yapılacağını bildirmelidir. BEP  çocuk için uygun olmayan testlerin nedenlerini ve onun yerine hangi testlerin verilip verilmeyeceğini bildirmelidir.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ff"/>
                </a:solidFill>
                <a:latin typeface="Arial"/>
              </a:rPr>
              <a:t>6. Tarihler ve yerleri</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EP  hizmetlerinin  ne zaman başlayacağını,  ne kadar sıklıkta olacağını,  nerede olacağını,  ne kadar süre devam edeceğini   belirtmelidir.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ff"/>
                </a:solidFill>
                <a:latin typeface="Arial"/>
              </a:rPr>
              <a:t>7. Geçiş  hizmetine gereksinimler</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Çocuk bir programdan diğerine geçerken,  örneğin 15 yaşına geldiğinde çocuğun devam edeceği bir üst programın amaçlarına ulaşıp ulaşamayacağını veya nasıl ulaşabileceğini belirtmelidir.</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66ff"/>
                </a:solidFill>
                <a:latin typeface="Arial"/>
              </a:rPr>
              <a:t>8. Geçiş hizmetlerine duyulan gereksinimler</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Çocuk okuldan ayrılırken  nelere gereksinim duymaktadır. </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66ff"/>
                </a:solidFill>
                <a:latin typeface="Arial"/>
              </a:rPr>
              <a:t>9. Çocuğun okuldan ayrılma yaşı ve hakları</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66ff"/>
                </a:solidFill>
                <a:latin typeface="Arial"/>
              </a:rPr>
              <a:t>10. İlerlemeyi değerlendirme</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BEP; çocuğun nasıl değerlendirileceğini ve bunun nasıl olduğu ile ilgili ailenin bilgilendirilmesini belirtmesi gerekir. </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cc66ff"/>
                </a:solidFill>
                <a:latin typeface="Arial"/>
              </a:rPr>
              <a:t>Okulun ve ülkenin  istemleri konusunda  esneklik </a:t>
            </a:r>
            <a:r>
              <a:rPr b="0" lang="tr-TR" sz="3000" spc="-1" strike="noStrike">
                <a:solidFill>
                  <a:srgbClr val="000000"/>
                </a:solidFill>
                <a:latin typeface="Arial"/>
              </a:rPr>
              <a:t>BEP’te görülebilir. </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9966"/>
                </a:solidFill>
                <a:latin typeface="Arial"/>
              </a:rPr>
              <a:t>Bazı ülkelerde veya okullarda farklı bilgiler BEP’te  olabilir. Örneğin; bazı okullar toplantıların zamanlarıyla birlikte nasıl olduğunu ve nelerin konuşulduğunu, çocuğun nasıl yerleştirileceğini, yerin özelliklerini,  ailenin de onayını alma gibi durumları detaylı olarak yazabilir</a:t>
            </a:r>
            <a:r>
              <a:rPr b="0" lang="tr-TR"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990099"/>
                </a:solidFill>
                <a:latin typeface="Arial"/>
              </a:rPr>
              <a:t>Farklı Yerlerdeki BEP Formları</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9900"/>
                </a:solidFill>
                <a:latin typeface="Arial"/>
              </a:rPr>
              <a:t>Aslında BEP’in  nasıl görüneceği ile bilgiler farklı olabilir. Örneğin, ABD’de farklı BEP formları kullanılıyor.  Önemli olan   her BEP formu açık net ve anlaşılır olmalıdır.  Önemli olan, bu hizmeti verenler kolayca bu hizmeti verebilecekleri özellikte olsu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9966"/>
                </a:solidFill>
                <a:latin typeface="Arial"/>
              </a:rPr>
              <a:t>BEP Ekip Üyeleri</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9900"/>
                </a:solidFill>
                <a:latin typeface="Arial"/>
              </a:rPr>
              <a:t>Yasalara göre; bazı bireyler, BEP yazılırken  zorunlu olarak orada yer almalıdırlar. BEP’te yer alan üyelerin önemli bilgileri toplantıya getirmeleri gerekir. Üyeler; bilgileri paylaşarak  BEP’i yazmaları gerekir. Her bireyin ekledikleri çocuğun ihtiyaçlarının karşılanması için bir katkı yapması gereki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5" name=""/>
          <p:cNvGraphicFramePr/>
          <p:nvPr/>
        </p:nvGraphicFramePr>
        <p:xfrm>
          <a:off x="468360" y="1413000"/>
          <a:ext cx="7993080" cy="4752720"/>
        </p:xfrm>
        <a:graphic>
          <a:graphicData uri="http://schemas.openxmlformats.org/drawingml/2006/table">
            <a:tbl>
              <a:tblPr/>
              <a:tblGrid>
                <a:gridCol w="549360"/>
                <a:gridCol w="896760"/>
                <a:gridCol w="897120"/>
                <a:gridCol w="898560"/>
                <a:gridCol w="549000"/>
                <a:gridCol w="2257560"/>
                <a:gridCol w="1079640"/>
                <a:gridCol w="865080"/>
              </a:tblGrid>
              <a:tr h="4752720">
                <a:tc>
                  <a: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ilel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Sınıf öğretmenler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Okul temsilcis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Öğrenc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 Uzmanla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 Sonuçları iyi yorumlayan bi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uzma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 Özel eğitim öğretmen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 Okul geçiş programı temsilcis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06" name=""/>
          <p:cNvSpPr/>
          <p:nvPr/>
        </p:nvSpPr>
        <p:spPr>
          <a:xfrm>
            <a:off x="0" y="4738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9900"/>
                </a:solidFill>
                <a:latin typeface="Arial"/>
              </a:rPr>
              <a:t>1. Aileler BEP ekibinin  anahtar üyeleridir. Onlar çocuklarını en iyi tanıyanlardır.  Onlar çocukların  nasıl öğrendiklerini,  onların ilgilerini iyi bilenlerdir.   Ayrıca okulda öğrenilenlerin evde pekiştirilip pekiştirelemediğini ve pratikte öğrencinin kullanıp kullanmadıkları konusunda önemli bilgi verirle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68360" y="549360"/>
            <a:ext cx="8229600" cy="5581440"/>
          </a:xfrm>
          <a:prstGeom prst="rect">
            <a:avLst/>
          </a:prstGeom>
          <a:noFill/>
          <a:ln w="0">
            <a:noFill/>
          </a:ln>
        </p:spPr>
        <p:txBody>
          <a:bodyPr lIns="90000" rIns="90000" tIns="46800" bIns="46800" anchor="t">
            <a:normAutofit/>
          </a:bodyPr>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9966"/>
                </a:solidFill>
                <a:latin typeface="Arial"/>
              </a:rPr>
              <a:t>BEP </a:t>
            </a:r>
            <a:r>
              <a:rPr b="0" lang="en-US" sz="2100" spc="-1" strike="noStrike">
                <a:solidFill>
                  <a:srgbClr val="000000"/>
                </a:solidFill>
                <a:latin typeface="Arial"/>
              </a:rPr>
              <a:t>: </a:t>
            </a:r>
            <a:r>
              <a:rPr b="0" lang="en-US" sz="2100" spc="-1" strike="noStrike">
                <a:solidFill>
                  <a:srgbClr val="cc66ff"/>
                </a:solidFill>
                <a:latin typeface="Arial"/>
              </a:rPr>
              <a:t>BEP aile ile okul arasında çocuğun  ihtiyaçlarının ne olduğu ile  bu ihtiyaçların giderilmesine yönelik nelerin yapılacağı hakkında yazılı bir anlaşmadır. Bu program aslında  öğrenciye verilecek  hizmetler için bir anlaşmadır . Yasal düzenlemelere göre, bir BEP şunları içermelidir. </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ff"/>
                </a:solidFill>
                <a:latin typeface="Arial"/>
              </a:rPr>
              <a:t>Öğrencinin şimdiki  akademik performansı (düzeyi)</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ff"/>
                </a:solidFill>
                <a:latin typeface="Arial"/>
              </a:rPr>
              <a:t>Öğrenci için yıllık amaçlar</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ff"/>
                </a:solidFill>
                <a:latin typeface="Arial"/>
              </a:rPr>
              <a:t>Uzun dönemli hedeflere yönelik  kısa dönemli amaçlar</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ff"/>
                </a:solidFill>
                <a:latin typeface="Arial"/>
              </a:rPr>
              <a:t>Özel eğitim veya ilgili hizmetlerin n ne olacağı ve çocuğun bunlara katılım derecesi</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ff"/>
                </a:solidFill>
                <a:latin typeface="Arial"/>
              </a:rPr>
              <a:t>Bu hizmetlerin başlama tarihi  ve süresi</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ff"/>
                </a:solidFill>
                <a:latin typeface="Arial"/>
              </a:rPr>
              <a:t>En azından yılda bir defa değerlendirme ile ilgili planlar</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ff"/>
                </a:solidFill>
                <a:latin typeface="Arial"/>
              </a:rPr>
              <a:t>Üst sınıflardaki öğrenciler için  üst öğrenim ya da iş için geçiş planları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539640" y="1628640"/>
            <a:ext cx="8229600" cy="4530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ff"/>
                </a:solidFill>
                <a:latin typeface="Arial"/>
              </a:rPr>
              <a:t>2. Öğretmenl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P’ e en az bir öğretmen katılmalıdır. Öğretmenler şu konuda bilgi verebilirler. </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ınıfta uygulanan genel program</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Çocuğun öğrenmesine yardım edecek, onu geliştirebilecek  ve başarabilecek gerekli araç-gereçler ve hizmetler</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Çocuğun davranış öğrenmesine yardım edecek  stratejil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yrıca çocuğun  yapabilmesi için öğretmen, ekiple şunları tartışabilir. </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un yıllık amaçları ile ilgili gelişimi </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l programı izleyebilme durumu</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dışı etkinliklere katılabilme durumu</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ğer çocuklarla   eğitilebilme durumu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Ayrıca öğretmenlerin profesyonel gelişimini de tartışabilir.  Mesleki gelişim, örneğin,  okul  öğretmenleri için,  yöneticiler,  taşıyıcılar,  kantin işletmecileri ve diğerleri –çocuğun gelişimine katkıda bulunanl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Özel eğitim öğretmeni ise</a:t>
            </a:r>
            <a:r>
              <a:rPr b="0" lang="en-US" sz="2800" spc="-1" strike="noStrike">
                <a:solidFill>
                  <a:srgbClr val="cc66ff"/>
                </a:solidFill>
                <a:latin typeface="Arial"/>
              </a:rPr>
              <a:t>,</a:t>
            </a:r>
            <a:r>
              <a:rPr b="0" lang="en-US" sz="2800" spc="-1" strike="noStrike">
                <a:solidFill>
                  <a:srgbClr val="000000"/>
                </a:solidFill>
                <a:latin typeface="Arial"/>
              </a:rPr>
              <a:t>  </a:t>
            </a:r>
            <a:r>
              <a:rPr b="0" lang="en-US" sz="2800" spc="-1" strike="noStrike">
                <a:solidFill>
                  <a:srgbClr val="990099"/>
                </a:solidFill>
                <a:latin typeface="Arial"/>
              </a:rPr>
              <a:t>engelli çocuğun nasıl eğitileceğine dair önemli bilgiler verir. Özel eğitim öğretmenleri şu konularda bilgiler verebilir:</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Çocuğun öğrenmesi için programda nasıl değişim yapılabileceği</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Çocuğun başarılı olası için normal sınıflarda veya diğer yerlerde  hangi araç-gereçlere gereksinim duyduğu</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Çocuğun öğrendiklerinin nasıl ölçülüp değerlendirileceği konusunda</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Çocuğun engel derecesi ve türüne göre  bireysel öğretim boyutlarıyla ilgili  bilgileri verebili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404640"/>
            <a:ext cx="8229600" cy="57261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yrıca  BEP yazımının ötesinde,  BEP uygulanmasında özel görevleri de vardır.  </a:t>
            </a:r>
            <a:r>
              <a:rPr b="0" lang="en-US" sz="3600" spc="-1" strike="noStrike">
                <a:solidFill>
                  <a:srgbClr val="ff0000"/>
                </a:solidFill>
                <a:latin typeface="Arial"/>
              </a:rPr>
              <a:t>Özel eğitim öğretmeni;</a:t>
            </a:r>
            <a:r>
              <a:rPr b="0" lang="en-US" sz="3600" spc="-1" strike="noStrike">
                <a:solidFill>
                  <a:srgbClr val="000000"/>
                </a:solidFill>
                <a:latin typeface="Arial"/>
              </a:rPr>
              <a:t> </a:t>
            </a:r>
            <a:endParaRPr b="0" lang="en-US" sz="3600" spc="-1" strike="noStrike">
              <a:solidFill>
                <a:srgbClr val="000000"/>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Öğrenci ile kaynak oda veya özel bir sınıfta bireysel çalışabilir. </a:t>
            </a:r>
            <a:endParaRPr b="0" lang="en-US" sz="3200" spc="-1" strike="noStrike">
              <a:solidFill>
                <a:srgbClr val="000000"/>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Normal sınıf öğretmeni ile Ekip öğretiminin nasıl olacağı ile ilgili bilgileri tartışabilir. </a:t>
            </a:r>
            <a:endParaRPr b="0" lang="en-US" sz="3200" spc="-1" strike="noStrike">
              <a:solidFill>
                <a:srgbClr val="000000"/>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Diğer okul personeli ile çocuğun özel ihtiyaçlarının ne olacağı ile ilgili bilgileri gerekli ve ilgili kişilerle tartışabilir</a:t>
            </a:r>
            <a:r>
              <a:rPr b="0" lang="en-US" sz="3200" spc="-1" strike="noStrike">
                <a:solidFill>
                  <a:srgbClr val="cc66ff"/>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00"/>
                </a:solidFill>
                <a:latin typeface="Arial"/>
              </a:rPr>
              <a:t>Ayrıca çocuğun BEP uygulamasında nasıl bir öğretim yöntemi veya tekniğinin uygulanabileceği ile bilgiler verecektir.</a:t>
            </a:r>
            <a:r>
              <a:rPr b="0" lang="tr-TR"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00"/>
                </a:solidFill>
                <a:latin typeface="Arial"/>
              </a:rPr>
              <a:t>BEP ekibi çocuğun engeli ile yakından ilgili olan uzmanları da dahil etmesi gerekir. Örneğin, çocuğa mesleki eğitim veren eğitimcinin  çocuğun güçlü veya zayıf yönleri hakkında bilgi verebileceği unutulmamalıdır. Bunun gibi, fizyoterapist,  beden eğitimcisi,  psikolog,  konuşma veya dil  patoloğu.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P ekibi, ayrıca çocuğun kendisini BEP hazırlanırken veya bir üst okula veya okuldan ayrılma durumunu gözden geçirmek için mutlaka toplantıya çağırması gerekir.</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5716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BEP Ekibinin Üyesi Olarak  Sınıf Öğretmeni</a:t>
            </a:r>
            <a:endParaRPr b="0" lang="en-US" sz="3000" spc="-1" strike="noStrike">
              <a:solidFill>
                <a:srgbClr val="000000"/>
              </a:solidFill>
              <a:latin typeface="Arial"/>
            </a:endParaRPr>
          </a:p>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00"/>
                </a:solidFill>
                <a:latin typeface="Arial"/>
              </a:rPr>
              <a:t>BEP ekibinde sınıf öğretmeninin de görev alması gerekir çünkü:</a:t>
            </a:r>
            <a:endParaRPr b="0" lang="en-US" sz="3000" spc="-1" strike="noStrike">
              <a:solidFill>
                <a:srgbClr val="000000"/>
              </a:solidFill>
              <a:latin typeface="Arial"/>
            </a:endParaRPr>
          </a:p>
          <a:p>
            <a:pPr marL="571680" indent="-571680">
              <a:lnSpc>
                <a:spcPct val="90000"/>
              </a:lnSpc>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66ff"/>
                </a:solidFill>
                <a:latin typeface="Arial"/>
              </a:rPr>
              <a:t>Programın modifikasyonunda,</a:t>
            </a:r>
            <a:endParaRPr b="0" lang="en-US" sz="3000" spc="-1" strike="noStrike">
              <a:solidFill>
                <a:srgbClr val="000000"/>
              </a:solidFill>
              <a:latin typeface="Arial"/>
            </a:endParaRPr>
          </a:p>
          <a:p>
            <a:pPr marL="571680" indent="-571680">
              <a:lnSpc>
                <a:spcPct val="90000"/>
              </a:lnSpc>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66ff"/>
                </a:solidFill>
                <a:latin typeface="Arial"/>
              </a:rPr>
              <a:t>Çocuğun genel programı izleyebilme ve başarı durumunun gözden geçirilmesinde,</a:t>
            </a:r>
            <a:endParaRPr b="0" lang="en-US" sz="3000" spc="-1" strike="noStrike">
              <a:solidFill>
                <a:srgbClr val="000000"/>
              </a:solidFill>
              <a:latin typeface="Arial"/>
            </a:endParaRPr>
          </a:p>
          <a:p>
            <a:pPr marL="571680" indent="-571680">
              <a:lnSpc>
                <a:spcPct val="90000"/>
              </a:lnSpc>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66ff"/>
                </a:solidFill>
                <a:latin typeface="Arial"/>
              </a:rPr>
              <a:t>Genel eğitim ortamına katılımı ve ne derece uyum sağlayabilmesi gibi durumların ortaya çıkarılmasında  için çok önemlidir. </a:t>
            </a:r>
            <a:endParaRPr b="0" lang="en-US" sz="3000" spc="-1" strike="noStrike">
              <a:solidFill>
                <a:srgbClr val="000000"/>
              </a:solidFill>
              <a:latin typeface="Arial"/>
            </a:endParaRPr>
          </a:p>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66ff"/>
                </a:solidFill>
                <a:latin typeface="Arial"/>
              </a:rPr>
              <a:t>Ancak her konu için sınıf öğretmeni katılmayabili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57168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ff9966"/>
                </a:solidFill>
                <a:latin typeface="Arial"/>
              </a:rPr>
              <a:t>BEP Ekibinin Kurulması İçin İlgili Servisler</a:t>
            </a: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BEP için şu servislerin görev alması gerekir: </a:t>
            </a: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1.Odyoloji servisleri</a:t>
            </a: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2. Danışmanlık servisleri</a:t>
            </a: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3. Çocukları erken tanıma ve değerlendirme servisi</a:t>
            </a: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4. Medikal servisler</a:t>
            </a: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5. Mesleki eğitim verecek kurum temsilcisi</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Taşıma servisleri</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Aile danışmanlığı ve eğitimi veren kurumu</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Fizyoterapi servisi</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Psikoloji servisleri</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Boş zaman etkinlikleri ve spor kurumları</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Okul sağlık servisleri</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Okul sosyal çalışmacıları</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Konuşma ve dil patologları</a:t>
            </a:r>
            <a:endParaRPr b="0" lang="en-US" sz="2100" spc="-1" strike="noStrike">
              <a:solidFill>
                <a:srgbClr val="000000"/>
              </a:solidFill>
              <a:latin typeface="Arial"/>
            </a:endParaRPr>
          </a:p>
          <a:p>
            <a:pPr marL="571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404640"/>
            <a:ext cx="8229600" cy="5726160"/>
          </a:xfrm>
          <a:prstGeom prst="rect">
            <a:avLst/>
          </a:prstGeom>
          <a:noFill/>
          <a:ln w="0">
            <a:noFill/>
          </a:ln>
        </p:spPr>
        <p:txBody>
          <a:bodyPr lIns="90000" rIns="90000" tIns="46800" bIns="46800" anchor="t">
            <a:normAutofit/>
          </a:bodyPr>
          <a:p>
            <a:pPr marL="5716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9966"/>
                </a:solidFill>
                <a:latin typeface="Arial"/>
              </a:rPr>
              <a:t>Transition Servisleri (Bir Üst Kuruma Geçiş veya Okuldan Ayrılma ve Hayata Hazırlık)</a:t>
            </a:r>
            <a:endParaRPr b="0" lang="en-US" sz="2600" spc="-1" strike="noStrike">
              <a:solidFill>
                <a:srgbClr val="000000"/>
              </a:solidFill>
              <a:latin typeface="Arial"/>
            </a:endParaRPr>
          </a:p>
          <a:p>
            <a:pPr marL="5716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Transition: Engelli çocuğun gerçek hayata  hazırlanmasıdır. Yükseköğretime hazırlık,  mesleki eğitim, mesleki eğitim verebilecek kurumlarla iletişim, okulda çocuğun  tercihleri,  becerileri ve gereksinimlerine göre   geliştirilmesidir. İki şekilde bu plan yapılabilir. </a:t>
            </a:r>
            <a:endParaRPr b="0" lang="en-US" sz="2600" spc="-1" strike="noStrike">
              <a:solidFill>
                <a:srgbClr val="000000"/>
              </a:solidFill>
              <a:latin typeface="Arial"/>
            </a:endParaRPr>
          </a:p>
          <a:p>
            <a:pPr marL="571680" indent="-571680" algn="just">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Transition planının  yapılması (14 yaşında)</a:t>
            </a:r>
            <a:endParaRPr b="0" lang="en-US" sz="2600" spc="-1" strike="noStrike">
              <a:solidFill>
                <a:srgbClr val="000000"/>
              </a:solidFill>
              <a:latin typeface="Arial"/>
            </a:endParaRPr>
          </a:p>
          <a:p>
            <a:pPr marL="571680" indent="-571680" algn="just">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Transition  hizmeti verme (16 yaşında). Bunun için çocuğun okuldan ayrılarak gerçek hayata uyum sağlaması için yapılan hizmetler. Bu  hizmetler örneğin, çocuğun ilgi ve ihtiyaçları karşısında, yükseköğretim,  iş,  yetişkinlik hizmetleri,  bağımsız yaşam,  toplumda  yaşam ve sorumluluk alma. </a:t>
            </a:r>
            <a:endParaRPr b="0" lang="en-US" sz="2600" spc="-1" strike="noStrike">
              <a:solidFill>
                <a:srgbClr val="000000"/>
              </a:solidFill>
              <a:latin typeface="Arial"/>
            </a:endParaRPr>
          </a:p>
          <a:p>
            <a:pPr marL="5716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Özel eğitime muhtaç her bir çocuk  Bireysel Eğitim Programına (BEP)  sahip olmalıdır.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r bir BEP tekbir öğrenci için olmalıdır ve  gerçekten  bireye ait bir doküman olmalıdır.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P  öğretmenler için, aileler için, okul yöneticileri için  özel eğitim hizmeti veren  personel için, uygun olan zamanda engelli bir öğrencinin  eğitim ve diğer yönden  gelişimiyle ilgili sonuçları geliştirmeye  yönelik birlikte çalışılmasını gerektiren bir programdı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333360"/>
            <a:ext cx="8229600" cy="5797440"/>
          </a:xfrm>
          <a:prstGeom prst="rect">
            <a:avLst/>
          </a:prstGeom>
          <a:noFill/>
          <a:ln w="0">
            <a:noFill/>
          </a:ln>
        </p:spPr>
        <p:txBody>
          <a:bodyPr lIns="90000" rIns="90000" tIns="46800" bIns="46800" anchor="t">
            <a:normAutofit/>
          </a:bodyPr>
          <a:p>
            <a:pPr marL="5716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66"/>
                </a:solidFill>
                <a:latin typeface="Arial"/>
              </a:rPr>
              <a:t>BEP Yazımı</a:t>
            </a: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00"/>
                </a:solidFill>
                <a:latin typeface="Arial"/>
              </a:rPr>
              <a:t>Bütün bilgilerden sonra , gözlemleri,  testler, ve diğer işlemlerden sonra çocuğun hali hazırdaki durumu yani ‘eğitim performansının şimdiki durumu’  bilindikten sonra çocuğun BEP için Uzun dönemli denilen veya yıllık amaçlar dediğimiz hedeflerin belirlenmesine sıra gelecektir. Ayrıca BEP çocuğun özel durumlarını da tartışacaktır. Bunlar:</a:t>
            </a: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00"/>
                </a:solidFill>
                <a:latin typeface="Arial"/>
              </a:rPr>
              <a:t> </a:t>
            </a:r>
            <a:r>
              <a:rPr b="0" lang="en-US" sz="2600" spc="-1" strike="noStrike">
                <a:solidFill>
                  <a:srgbClr val="009900"/>
                </a:solidFill>
                <a:latin typeface="Arial"/>
              </a:rPr>
              <a:t>1. Çocuğun  güçlü yönleri,</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00"/>
                </a:solidFill>
                <a:latin typeface="Arial"/>
              </a:rPr>
              <a:t>Çocuğun eğitimini geliştirmek için ailenin görüşleri</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00"/>
                </a:solidFill>
                <a:latin typeface="Arial"/>
              </a:rPr>
              <a:t> </a:t>
            </a:r>
            <a:r>
              <a:rPr b="0" lang="en-US" sz="2600" spc="-1" strike="noStrike">
                <a:solidFill>
                  <a:srgbClr val="009900"/>
                </a:solidFill>
                <a:latin typeface="Arial"/>
              </a:rPr>
              <a:t>Varsa önceki değerlendirmenin gözden geçirilmesi  ve, </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00"/>
                </a:solidFill>
                <a:latin typeface="Arial"/>
              </a:rPr>
              <a:t> </a:t>
            </a:r>
            <a:r>
              <a:rPr b="0" lang="en-US" sz="2600" spc="-1" strike="noStrike">
                <a:solidFill>
                  <a:srgbClr val="009900"/>
                </a:solidFill>
                <a:latin typeface="Arial"/>
              </a:rPr>
              <a:t>Çocuğun aldığı testlerdeki başarılarıdır.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Ayrıca  BEP’te  şunlar da  düşünmesi gerekir. </a:t>
            </a: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Çocuğa nasıl yardım edilecek boyutunda çocuğun gereksinimlerinin de tartışılması da önemlidir. </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Yıllık amaçların avantajı (çocuğa sağlayacak faydaları)</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Genel programdaki ilerlemesi ve katılımı</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Extra program ve  akademik olmayan aktiviteler</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Engelli çocuğun diğer engellilerle ve engelli olmayanlarla kaynaştırılması da tartışılmalıdır. </a:t>
            </a:r>
            <a:endParaRPr b="0" lang="en-US" sz="2600" spc="-1" strike="noStrike">
              <a:solidFill>
                <a:srgbClr val="000000"/>
              </a:solidFill>
              <a:latin typeface="Arial"/>
            </a:endParaRPr>
          </a:p>
          <a:p>
            <a:pPr marL="57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Bunlar tartışıldıktan sonra  BEP ekibi BEP’i yazmaya başlayacaklardır.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 </a:t>
            </a:r>
            <a:r>
              <a:rPr b="0" lang="tr-TR" sz="2600" spc="-1" strike="noStrike">
                <a:solidFill>
                  <a:srgbClr val="009900"/>
                </a:solidFill>
                <a:latin typeface="Arial"/>
              </a:rPr>
              <a:t>BEP servisleri ve destekleri kapsayacaktır. Bunların okul tarafından karşılanması gerekir. Eğer çocuk özel gereksinimleri varsa  örneğin, müdahale,  yer,  diğer program modifikasyonları)  BEP’te yazılması gerekir. Örneğin, çocuğun davranışları onun öğrenmesini zorlaştırıyorsa BEP ekibi  bu davranışı yazmak zorundalar. BEP ekibi pozitif davranışsal müdahaleyi,  stratejileri ve davranışını kontrol etmek için gerekli stratejileri de belirtmeleri gerekir.  </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333360"/>
            <a:ext cx="8229600" cy="5797440"/>
          </a:xfrm>
          <a:prstGeom prst="rect">
            <a:avLst/>
          </a:prstGeom>
          <a:noFill/>
          <a:ln w="0">
            <a:noFill/>
          </a:ln>
        </p:spPr>
        <p:txBody>
          <a:bodyPr lIns="90000" rIns="90000" tIns="46800" bIns="46800" anchor="t">
            <a:normAutofit/>
          </a:bodyPr>
          <a:p>
            <a:pPr marL="5716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66ff"/>
                </a:solidFill>
                <a:latin typeface="Arial"/>
              </a:rPr>
              <a:t>Düşünülmesi gereken Özel Faktörler</a:t>
            </a:r>
            <a:endParaRPr b="0" lang="en-US" sz="2600" spc="-1" strike="noStrike">
              <a:solidFill>
                <a:srgbClr val="000000"/>
              </a:solidFill>
              <a:latin typeface="Arial"/>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66"/>
                </a:solidFill>
                <a:latin typeface="Arial"/>
              </a:rPr>
              <a:t>Çocuğun ihtiyaçlarına bağlı olarak, </a:t>
            </a:r>
            <a:endParaRPr b="0" lang="en-US" sz="2600" spc="-1" strike="noStrike">
              <a:solidFill>
                <a:srgbClr val="000000"/>
              </a:solidFill>
              <a:latin typeface="Arial"/>
            </a:endParaRPr>
          </a:p>
          <a:p>
            <a:pPr marL="571680" indent="-5716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66"/>
                </a:solidFill>
                <a:latin typeface="Arial"/>
              </a:rPr>
              <a:t>Çocuğun davranışı  diğerlerinin ve kendi öğrenmesini  engelliyorsa  çocuğun davranışları için  destek ve stratejilerin bilinmesi gerekir,</a:t>
            </a:r>
            <a:endParaRPr b="0" lang="en-US" sz="2600" spc="-1" strike="noStrike">
              <a:solidFill>
                <a:srgbClr val="000000"/>
              </a:solidFill>
              <a:latin typeface="Arial"/>
            </a:endParaRPr>
          </a:p>
          <a:p>
            <a:pPr marL="571680" indent="-5716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66"/>
                </a:solidFill>
                <a:latin typeface="Arial"/>
              </a:rPr>
              <a:t>Eğer çocuk sınırlı dil gelişimine sahipse  çocuğun dilinin nasıl geliştirilmesi gerektiği düşünülecek,</a:t>
            </a:r>
            <a:endParaRPr b="0" lang="en-US" sz="2600" spc="-1" strike="noStrike">
              <a:solidFill>
                <a:srgbClr val="000000"/>
              </a:solidFill>
              <a:latin typeface="Arial"/>
            </a:endParaRPr>
          </a:p>
          <a:p>
            <a:pPr marL="571680" indent="-5716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66"/>
                </a:solidFill>
                <a:latin typeface="Arial"/>
              </a:rPr>
              <a:t>Eğer çocukta görme kusuru varsa,  bu çocuğa  Braille  ile yazılan eğitsel araç-gerecin verilmesi gerektiği,</a:t>
            </a:r>
            <a:endParaRPr b="0" lang="en-US" sz="2600" spc="-1" strike="noStrike">
              <a:solidFill>
                <a:srgbClr val="000000"/>
              </a:solidFill>
              <a:latin typeface="Arial"/>
            </a:endParaRPr>
          </a:p>
          <a:p>
            <a:pPr marL="571680" indent="-5716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66"/>
                </a:solidFill>
                <a:latin typeface="Arial"/>
              </a:rPr>
              <a:t>Etkili bir iletişim için dilin geliştirilmesi ile  ilgili ihtiyacı varsa</a:t>
            </a:r>
            <a:endParaRPr b="0" lang="en-US" sz="2600" spc="-1" strike="noStrike">
              <a:solidFill>
                <a:srgbClr val="000000"/>
              </a:solidFill>
              <a:latin typeface="Arial"/>
            </a:endParaRPr>
          </a:p>
          <a:p>
            <a:pPr marL="571680" indent="-5716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66"/>
                </a:solidFill>
                <a:latin typeface="Arial"/>
              </a:rPr>
              <a:t>Eğer çocuk işitme engelli ve doğal sözel konuşma yolu ile anlamakta güçlükleri varsa, işaret diline izin vermek gerekir. </a:t>
            </a:r>
            <a:endParaRPr b="0" lang="en-US" sz="2600" spc="-1" strike="noStrike">
              <a:solidFill>
                <a:srgbClr val="000000"/>
              </a:solidFill>
              <a:latin typeface="Arial"/>
            </a:endParaRPr>
          </a:p>
          <a:p>
            <a:pPr marL="571680" indent="-5716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66"/>
                </a:solidFill>
                <a:latin typeface="Arial"/>
              </a:rPr>
              <a:t>Teknolojinin de düşünülmesi gerekir.  </a:t>
            </a:r>
            <a:endParaRPr b="0" lang="en-US" sz="2600" spc="-1" strike="noStrike">
              <a:solidFill>
                <a:srgbClr val="000000"/>
              </a:solidFill>
              <a:latin typeface="Arial"/>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lgn="ctr">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9966"/>
                </a:solidFill>
                <a:latin typeface="Arial"/>
              </a:rPr>
              <a:t>Çocuğun Ailesinin bir Interpreter’a gereksinimi</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9900"/>
                </a:solidFill>
                <a:latin typeface="Arial"/>
              </a:rPr>
              <a:t> </a:t>
            </a:r>
            <a:r>
              <a:rPr b="0" lang="tr-TR" sz="3000" spc="-1" strike="noStrike">
                <a:solidFill>
                  <a:srgbClr val="009900"/>
                </a:solidFill>
                <a:latin typeface="Arial"/>
              </a:rPr>
              <a:t>Bazı aileler konuşulan dili çok iyi anlayamıyor olabilirler. Bu bağlamda onunla ilgili bireyleri bağlantı kuracak birisini bulmaları gerekir. Örneğin, BEP için toplantılarda veya gözden geçirmelerde eğer aile konuşulanları anlayamıyor ise, mutlaka bir interpreter bulmalıdır. Bu yaklaşım ailenin katılımını sağlayacaktı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9966"/>
                </a:solidFill>
                <a:latin typeface="Arial"/>
              </a:rPr>
              <a:t>Uygun Ortama Karar verme</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Çocuk için uygun ortam dediğiniz çocuk nerede eğitilecek konusunun kararlaştırılması gerekir. Aile ve BEP ekibinin bunun nerede yapılacağına karar verilmesi gerekir. Bu ortam ‘En az kısıtlayıcı ortam’ (EKO) olması gerekir. Şu tür  ortamlar olabilir;</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Regular bir sınıf,</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Özel sınıf ki her birey Ö.E. hizmeti alıyor,</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Özel Okul,</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Ev,</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Hastane veya,</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diğer çeşit bir ortam olabili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cak okul etkili ve uygun bir ortam ayarlamak için şunları göz önünde bulundurması gereki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Çocuğun kendisi için en uygun program,</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 Diğer bir okulla anlaşarak onun için bir program geliştirilmesine katkı yapmak zorundadı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5716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9966"/>
                </a:solidFill>
                <a:latin typeface="Arial"/>
              </a:rPr>
              <a:t>BEP yazıldıktan sonra</a:t>
            </a:r>
            <a:endParaRPr b="0" lang="en-US" sz="30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00"/>
                </a:solidFill>
                <a:latin typeface="Arial"/>
              </a:rPr>
              <a:t>BEP hazırlandıktan sonra,</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00"/>
                </a:solidFill>
                <a:latin typeface="Arial"/>
              </a:rPr>
              <a:t>Aileye </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00"/>
                </a:solidFill>
                <a:latin typeface="Arial"/>
              </a:rPr>
              <a:t>Sınıf öğretmenine,</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00"/>
                </a:solidFill>
                <a:latin typeface="Arial"/>
              </a:rPr>
              <a:t>Özel eğitim öğretmenine,</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00"/>
                </a:solidFill>
                <a:latin typeface="Arial"/>
              </a:rPr>
              <a:t>İlgili servislerin elemanlarına (uzmanlarına) verilmesi gerekir. Çünkü her birisi çocuğun gereksinimlerinin ne olduğunu bilmesi gerekir. </a:t>
            </a:r>
            <a:endParaRPr b="0" lang="en-US" sz="30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5716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9966"/>
                </a:solidFill>
                <a:latin typeface="Arial"/>
              </a:rPr>
              <a:t>BEP’in Uygulanması</a:t>
            </a:r>
            <a:endParaRPr b="0" lang="en-US" sz="30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9900"/>
                </a:solidFill>
                <a:latin typeface="Arial"/>
              </a:rPr>
              <a:t>BEP yazıldıktan sonra sıra onun uygulanması ile devam eder. BEP’te ne gerekli görüldüyse onun çocuk için hazır hale getirilmesi gerekir. Ancak BEP’in  etkili uygulanması için şunlarda göz önüne alınması gerekir. </a:t>
            </a: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BEP’te görev alan her birey  sorumluluğunu bilmeli ve tam olarak yapmalıdır.</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Ekip çalışması çok önemlidir. Öğretmen ve destek öğretmeni çocuğa daha iyi eğitim verebilmek için diğer uzmanlardan yardım isterse okul bunun için koşulsuz destek olmalıdır. </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Aile ve okul arasında iyi bir iletişim kurulmalıdır. </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BEP koordinasyonunu sağlayacak birisi görevlendirilmelidi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9000"/>
          </a:bodyPr>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ani BEP her bir engelli çocuğun kaliteli eğitimi için  köşe taşıdır. </a:t>
            </a:r>
            <a:endParaRPr b="0" lang="en-US" sz="3000" spc="-1" strike="noStrike">
              <a:solidFill>
                <a:srgbClr val="000000"/>
              </a:solidFill>
              <a:latin typeface="Arial"/>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P destek  servisleri için  engelli bir çocuğa ne tür bir hizmet vereceklerine rehberlik eder.  </a:t>
            </a:r>
            <a:endParaRPr b="0" lang="en-US" sz="3000" spc="-1" strike="noStrike">
              <a:solidFill>
                <a:srgbClr val="000000"/>
              </a:solidFill>
              <a:latin typeface="Arial"/>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P bir ekip çalışmasıdır. </a:t>
            </a:r>
            <a:endParaRPr b="0" lang="en-US" sz="3000" spc="-1" strike="noStrike">
              <a:solidFill>
                <a:srgbClr val="000000"/>
              </a:solidFill>
              <a:latin typeface="Arial"/>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P aynı zamanda yasal düzenlemelerde istenenler üzerine temellendirilmesi gerekir.</a:t>
            </a:r>
            <a:endParaRPr b="0" lang="en-US" sz="3000" spc="-1" strike="noStrike">
              <a:solidFill>
                <a:srgbClr val="000000"/>
              </a:solidFill>
              <a:latin typeface="Arial"/>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BEP okuldan okula, eğitim sistemlerinden eğitim sistemlerine göre düzenlenmesi açısından farklılık gösterir. </a:t>
            </a:r>
            <a:endParaRPr b="0" lang="en-US" sz="3000" spc="-1" strike="noStrike">
              <a:solidFill>
                <a:srgbClr val="000000"/>
              </a:solidFill>
              <a:latin typeface="Arial"/>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cak her BEP çocuk için önemlidir.  </a:t>
            </a:r>
            <a:endParaRPr b="0" lang="en-US" sz="3000" spc="-1" strike="noStrike">
              <a:solidFill>
                <a:srgbClr val="000000"/>
              </a:solidFill>
              <a:latin typeface="Arial"/>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333360"/>
            <a:ext cx="8229600" cy="579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68360" y="476280"/>
            <a:ext cx="8229600" cy="564984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BEP’i açıklamadan önce çocuğun  nasıl tanılanacağı ile ilgili bazı bilgilerin  verilmesi gerekir.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66ff"/>
                </a:solidFill>
                <a:latin typeface="Arial"/>
              </a:rPr>
              <a:t>Aşama 1:</a:t>
            </a:r>
            <a:r>
              <a:rPr b="0" lang="tr-TR" sz="2600" spc="-1" strike="noStrike">
                <a:solidFill>
                  <a:srgbClr val="000000"/>
                </a:solidFill>
                <a:latin typeface="Arial"/>
              </a:rPr>
              <a:t> </a:t>
            </a:r>
            <a:r>
              <a:rPr b="0" lang="tr-TR" sz="2600" spc="-1" strike="noStrike">
                <a:solidFill>
                  <a:srgbClr val="ff9966"/>
                </a:solidFill>
                <a:latin typeface="Arial"/>
              </a:rPr>
              <a:t>Çocuk her şeyden önce  özel eğitime muhtaç mıdır ve Özel eğitimle ilgili hizmetlere ihtiyaç duymakta mıdır?</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Önce çocuğu ‘tanıla ve bul’ etkinliklerin yerine getirilmesi gerekir. Bunun için ya aile çocuğun tanılanmasını ister ya da  okuldaki öğretmen  çocuğun değerlendirilmesini ister.  Bu istek ya yazılı yada sözel olabilir.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Ancak bunun için ailenin görüşünün alınması gerekir.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539640" y="549360"/>
            <a:ext cx="8229600" cy="540072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ff"/>
                </a:solidFill>
                <a:latin typeface="Arial"/>
              </a:rPr>
              <a:t>Aşama 2:</a:t>
            </a:r>
            <a:r>
              <a:rPr b="0" lang="en-US" sz="2100" spc="-1" strike="noStrike">
                <a:solidFill>
                  <a:srgbClr val="000000"/>
                </a:solidFill>
                <a:latin typeface="Arial"/>
              </a:rPr>
              <a:t> Çocuk değerlendirilir.</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ff"/>
                </a:solidFill>
                <a:latin typeface="Arial"/>
              </a:rPr>
              <a:t>Aşama 3</a:t>
            </a:r>
            <a:r>
              <a:rPr b="0" lang="en-US" sz="2100" spc="-1" strike="noStrike">
                <a:solidFill>
                  <a:srgbClr val="000000"/>
                </a:solidFill>
                <a:latin typeface="Arial"/>
              </a:rPr>
              <a:t>: Çocuk  Ö.E. M. olup olmadığı durumuna karar verilir.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ff"/>
                </a:solidFill>
                <a:latin typeface="Arial"/>
              </a:rPr>
              <a:t>Aşama 4: </a:t>
            </a:r>
            <a:r>
              <a:rPr b="0" lang="en-US" sz="2100" spc="-1" strike="noStrike">
                <a:solidFill>
                  <a:srgbClr val="000000"/>
                </a:solidFill>
                <a:latin typeface="Arial"/>
              </a:rPr>
              <a:t>Çocuk Ö.E.M. Çocuk olarak değerlendirilirse 30 gün içersinde BEP ekibi çocuk için toplanır.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ff"/>
                </a:solidFill>
                <a:latin typeface="Arial"/>
              </a:rPr>
              <a:t>Aşama 5:</a:t>
            </a:r>
            <a:r>
              <a:rPr b="0" lang="en-US" sz="2100" spc="-1" strike="noStrike">
                <a:solidFill>
                  <a:srgbClr val="000000"/>
                </a:solidFill>
                <a:latin typeface="Arial"/>
              </a:rPr>
              <a:t> BEP toplantıları bir plan dahilinde yapılması kararlaştırılır. Bu bağlamda  okuldaki personelin  şunları yapması gerekir. </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BEP ekibi ve aile ile iletişim kurar.</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Çocuk için uygun yer ve zamanında toplantı için aile ve okul  ekibi birlikte planlama yapar.</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ileye toplantının amacı toplantının  yeri ve zamanı da anlatılır.</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ileye, BEP toplantısına kimlerin katılacağı ve neden katılacağı konusunda bilgi verilir.</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68360" y="475920"/>
            <a:ext cx="8229600" cy="56833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66ff"/>
                </a:solidFill>
                <a:latin typeface="Arial"/>
              </a:rPr>
              <a:t>Aşama 6</a:t>
            </a:r>
            <a:r>
              <a:rPr b="0" lang="tr-TR" sz="2600" spc="-1" strike="noStrike">
                <a:solidFill>
                  <a:srgbClr val="000000"/>
                </a:solidFill>
                <a:latin typeface="Arial"/>
              </a:rPr>
              <a:t>: Toplantı yapılır ve BEP yazılır.</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BEP ekibi çocuğun ihtiyaçlarının ne olduğunu tartışır ve  BEP’i yazar.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Aileler ve öğrenci BEP ekibinin doğal parçasıdırlar.</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BU toplantıdan sonra çocuğa verilecek hizmetler çok kısa zamanda başlatılmalıdır.</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66ff"/>
                </a:solidFill>
                <a:latin typeface="Arial"/>
              </a:rPr>
              <a:t>Aşama 7</a:t>
            </a:r>
            <a:r>
              <a:rPr b="0" lang="tr-TR" sz="2600" spc="-1" strike="noStrike">
                <a:solidFill>
                  <a:srgbClr val="000000"/>
                </a:solidFill>
                <a:latin typeface="Arial"/>
              </a:rPr>
              <a:t>: Hizmetler sağlanır.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Bu aşamada çocuk için hazırlanan BEP’in yazılı formunun kopyası hizmet vereceklere ücretsiz verilir.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404640"/>
            <a:ext cx="8229600" cy="572616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cc66ff"/>
                </a:solidFill>
                <a:latin typeface="Arial"/>
              </a:rPr>
              <a:t>Aşama 8:</a:t>
            </a:r>
            <a:r>
              <a:rPr b="0" lang="tr-TR" sz="2100" spc="-1" strike="noStrike">
                <a:solidFill>
                  <a:srgbClr val="000000"/>
                </a:solidFill>
                <a:latin typeface="Arial"/>
              </a:rPr>
              <a:t>  Süreç ve ilerlemeler  değerlendirilir ve aileye de  bilgi verilir.  BEP teki yıllık amaçlara çocuk ne kadar  yaklaştı konusunda aileye yaşıtlarıyla da karşılaştırılarak bilgi verilir.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cc66ff"/>
                </a:solidFill>
                <a:latin typeface="Arial"/>
              </a:rPr>
              <a:t>Aşama 9:</a:t>
            </a:r>
            <a:r>
              <a:rPr b="0" lang="tr-TR" sz="2100" spc="-1" strike="noStrike">
                <a:solidFill>
                  <a:srgbClr val="000000"/>
                </a:solidFill>
                <a:latin typeface="Arial"/>
              </a:rPr>
              <a:t>   BEP gözden geçirilir.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Yılda en az bir defa gözden geçirilir. Eğer gerekirse BEP’te düzeltmeler yapılır.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cc66ff"/>
                </a:solidFill>
                <a:latin typeface="Arial"/>
              </a:rPr>
              <a:t>Aşama 10</a:t>
            </a:r>
            <a:r>
              <a:rPr b="0" lang="tr-TR" sz="2100" spc="-1" strike="noStrike">
                <a:solidFill>
                  <a:srgbClr val="000000"/>
                </a:solidFill>
                <a:latin typeface="Arial"/>
              </a:rPr>
              <a:t>: Çocuk yeniden değerlendirilir.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En azından her üç yılda çocuk bir defa  yeniden değerlendirilir. Bunun amacı çocuğun özel eğitime muhtaçlık durumu devam ediyor mu sorusuna cevap vermektir. Varsa nasıl bir ihtiyacı var. Eğer aile veya öğretmen  isterse çocuk yeniden değerlendirilir.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95280" y="404640"/>
            <a:ext cx="8229600" cy="5577120"/>
          </a:xfrm>
          <a:prstGeom prst="rect">
            <a:avLst/>
          </a:prstGeom>
          <a:noFill/>
          <a:ln w="0">
            <a:noFill/>
          </a:ln>
        </p:spPr>
        <p:txBody>
          <a:bodyPr lIns="90000" rIns="90000" tIns="46800" bIns="46800" anchor="t">
            <a:normAutofit fontScale="99000"/>
          </a:bodyPr>
          <a:p>
            <a:pPr marL="56592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ff9966"/>
                </a:solidFill>
                <a:latin typeface="Arial"/>
              </a:rPr>
              <a:t>BEP nedir?</a:t>
            </a:r>
            <a:endParaRPr b="0" lang="en-US" sz="2100" spc="-1" strike="noStrike">
              <a:solidFill>
                <a:srgbClr val="000000"/>
              </a:solidFill>
              <a:latin typeface="Arial"/>
            </a:endParaRPr>
          </a:p>
          <a:p>
            <a:pPr marL="565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BEP, engelli çocuk için önemlidir.  BEP,  öğretim, öğrenme  ve sonuçları geliştirmesi gerekir. BEP çocuğun kendine has gereksinimlerini karşılaması gerekir. </a:t>
            </a:r>
            <a:endParaRPr b="0" lang="en-US" sz="2100" spc="-1" strike="noStrike">
              <a:solidFill>
                <a:srgbClr val="000000"/>
              </a:solidFill>
              <a:latin typeface="Arial"/>
            </a:endParaRPr>
          </a:p>
          <a:p>
            <a:pPr marL="565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65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65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BEP yazarken şunlara dikkat edilmesi gerekir. </a:t>
            </a:r>
            <a:endParaRPr b="0" lang="en-US" sz="2100" spc="-1" strike="noStrike">
              <a:solidFill>
                <a:srgbClr val="000000"/>
              </a:solidFill>
              <a:latin typeface="Arial"/>
            </a:endParaRPr>
          </a:p>
          <a:p>
            <a:pPr marL="565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6592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ff9966"/>
                </a:solidFill>
                <a:latin typeface="Arial"/>
              </a:rPr>
              <a:t>BEP’in İçeriği</a:t>
            </a:r>
            <a:endParaRPr b="0" lang="en-US" sz="2100" spc="-1" strike="noStrike">
              <a:solidFill>
                <a:srgbClr val="000000"/>
              </a:solidFill>
              <a:latin typeface="Arial"/>
            </a:endParaRPr>
          </a:p>
          <a:p>
            <a:pPr marL="565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cc66ff"/>
                </a:solidFill>
                <a:latin typeface="Arial"/>
              </a:rPr>
              <a:t>Yasal düzenlemeler göre de  BEP şu bilgiler içermelidir. </a:t>
            </a:r>
            <a:endParaRPr b="0" lang="en-US" sz="2100" spc="-1" strike="noStrike">
              <a:solidFill>
                <a:srgbClr val="000000"/>
              </a:solidFill>
              <a:latin typeface="Arial"/>
            </a:endParaRPr>
          </a:p>
          <a:p>
            <a:pPr marL="565920" indent="-565920">
              <a:lnSpc>
                <a:spcPct val="9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ff9966"/>
                </a:solidFill>
                <a:latin typeface="Arial"/>
              </a:rPr>
              <a:t>Şimdiki performansı</a:t>
            </a:r>
            <a:endParaRPr b="0" lang="en-US" sz="2100" spc="-1" strike="noStrike">
              <a:solidFill>
                <a:srgbClr val="000000"/>
              </a:solidFill>
              <a:latin typeface="Arial"/>
            </a:endParaRPr>
          </a:p>
          <a:p>
            <a:pPr marL="565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cc66ff"/>
                </a:solidFill>
                <a:latin typeface="Arial"/>
              </a:rPr>
              <a:t>BEP çocuğun halihazırda okulda ne ve nasıl yapıyor sorusuna cevap vermelidir. BEP’teki bu bilgi   sınıfta yapılan testlerden,  ödevlerden,  bireysel testlerde,  ve gözlemlerden-  aileler,  öğretmenler,  ve diğerlerinden gelir. Bu bilgi çocuğun derslere katılımını ve genel programdaki ilerlemesi konusunda kendisini nasıl etkilediği ile ilgili bilgileri de içermelidir. </a:t>
            </a:r>
            <a:endParaRPr b="0" lang="en-US" sz="2100" spc="-1" strike="noStrike">
              <a:solidFill>
                <a:srgbClr val="000000"/>
              </a:solidFill>
              <a:latin typeface="Arial"/>
            </a:endParaRPr>
          </a:p>
          <a:p>
            <a:pPr marL="565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65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3T20:38:22Z</dcterms:created>
  <dc:creator>Hakan Sarı</dc:creator>
  <dc:description/>
  <dc:language>en-US</dc:language>
  <cp:lastModifiedBy>Your User Name</cp:lastModifiedBy>
  <dcterms:modified xsi:type="dcterms:W3CDTF">2005-07-19T22:24:42Z</dcterms:modified>
  <cp:revision>45</cp:revision>
  <dc:subject/>
  <dc:title>Özel Eğitimde Bireyselleştirilmiş Eğitim Programları Geliştirme Semineri  18-22 Temmuz 2005  Esenköy Hizmet-içi Eğitim Enstitüsü  - Yalova</dc:title>
</cp:coreProperties>
</file>